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dt" idx="115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sldImg"/>
          </p:nvPr>
        </p:nvSpPr>
        <p:spPr>
          <a:xfrm>
            <a:off x="92844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ftr" idx="116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 type="sldNum" idx="117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5768-2A1A-4C66-8123-77567E35A0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0325-2C6C-4C0A-B651-32958AAF3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932040" y="74628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563E-5B37-42F8-8369-1AFE83409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4BE7-B2F3-4E06-BD13-8673742D0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5A58-D41F-4D63-913E-1B020FCA3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3FD3-8762-48BE-B992-A40B72495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5B83-E923-478D-81CF-2728A8A79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7F5E-F7EF-48A3-8691-45776DFF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F6CF-2868-4A49-9E31-01C100B7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745611-25F1-4D77-868A-D5E295E8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453514-70A7-4DC7-8152-A7A34319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A2120-20E7-4C81-99D0-C13B847B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AA981-C8D4-4AD7-A9DC-A2B123BA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AD004F-62C1-4E0F-A7D7-334E11FE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33CA71-1BF0-42A7-A2DB-2170FBBF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976B54-A130-40FB-8CE2-9A656B80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C26730-AB0F-4418-AAFF-55A435ED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35E1E-989D-41C7-BBD7-89A78AEC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F20CC6-6052-46F4-BEAE-CBB65362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1EC4-902F-48E5-AF29-A0679836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841776-FA16-4227-92F4-E6FAABE2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F02FAC-44D4-46B7-B935-AB2E7D89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2A58F5-757B-4286-9936-F375C1D6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D2FE27-64F8-4F0C-89E7-BB77D00B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4D7D20-B9EE-4E48-BCFB-C7A06732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D2CC5F-CCF9-4D9C-AA1F-DC8B5073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F5BAC7-5ADA-4334-8E0E-58284310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975100-CE0A-4894-B5C1-E41D6592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FB463F-1FD5-4605-B069-747DEA2A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CAE39B-A8D7-4F88-9C6C-EDCA47C1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F358-919B-451F-A2AE-947CC445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96A6EE-6751-4E7D-A612-1AB04D10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6106B5-C395-4A35-9455-1E18428E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B94F75-DB1B-4D1F-B300-573021D5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845FCA-206E-4B0F-B990-0371EA86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7C134E-D5E9-4363-ADFD-95FAB875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61F103-248C-49C1-99D7-0A6BD5B7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C88E72-F330-41D8-9D2B-172C9497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DB03E0-B486-444F-B7DC-5C87EFFA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840A03-2C59-473C-9F13-C5703ED7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D258B0-A1F7-49CD-B677-832ECDEA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53F-2193-4844-BF4D-32BD59F1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894F94-21EF-4F94-AE24-27C4199E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398451-96E3-4C84-B036-7F8B1080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3FC7D7-F2BE-41D7-B3F1-18CE6DA6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9158E7-6282-42A6-8348-A89F6400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B11CCA-200B-4001-B6E4-5F8A33AE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BFBADD-523D-451E-8D3E-03B08CB8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FE4A1E-5BEB-482D-9A31-79D575F0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F7BEA3-C6D8-4304-89D8-2CD2AD14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580387-DEA3-4E07-BA3F-3FF6F0FB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4BBE5C-C646-4746-BD42-2EA4485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66B5-2C86-43B5-9C87-0C25FB28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DEC150-0F4F-47B8-9587-62593085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89678B-3084-4D18-8E0E-5980FE7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1F7930-B963-4B6C-87DE-C27614B3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71053E-7555-47A3-B72C-D207A08B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485734-CD23-4797-BD02-79E2C386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84515B-CB61-461C-A4C1-D3B3742A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2BB0C1-2FB6-4D1A-BD55-DD31E529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D42D62-EC6A-42C0-BC69-13042BA5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01DF4A-E688-4C5F-BC6D-7F53A7F2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690CFA-88C9-43DB-BFF7-59617148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8B06-FEE8-4A59-8478-96E61868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5E6660-C7D3-4383-A6E8-8C6A0EB9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25390A-1AC0-4E85-BA61-1845DB2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43285D-A6AD-45FE-BA26-58D1E79B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6CE40D-D7AA-4209-8618-FAB04626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7D8651-439F-4972-BFEF-08E43372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D43B17-CF02-4248-8D0B-D30069A1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8A252D-6AB3-45DC-BEB2-D74E9DC2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CB1F7D-05C9-40FB-904B-23B5C9EF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49B507-7DD2-400F-A4A5-9EF0FD85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8AC704-3F0C-44AD-9C91-B1B40EBD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189C-9CB2-49ED-BE4E-D1A56B31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468099-0DE9-4D95-885E-AB18DA31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4854A5-F960-4328-AE81-508AFBBC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2A1500-08D3-4548-A046-19FCCDB4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99F2B0-AA9F-4987-8CCF-41913FD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D2B356-5358-4BF0-A425-4928CF32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E96307-B284-43E4-8881-EA89975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EBA478-6121-4493-829D-7BDB8FDC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55D700-B3D4-4272-9807-801758C9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24F6FD-CAAA-477B-8FC0-7E60C01E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1ADED-60B3-4035-B36E-1F1EB6AE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2193-AAAD-4152-9A03-5729238F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3B9AB-CBA3-4585-8B33-E047DF10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B9891-D8DA-4947-9D4D-FBCC6044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A5482-42B4-4EF0-B741-A7E5438C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3F352-9474-43F6-B274-9AACA35A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2953E-CBC5-423E-AAB7-67DCAF73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E835D-75B3-4D84-AA57-02C55725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65256-22EB-41CB-B729-84457600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B13D0-B381-4A61-8673-D417AB8A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AF288-E45D-45A0-9522-A84728A4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B56E0-D31F-44EE-BCC4-09AB29F1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BF95-2BDE-40F3-AF43-10F58597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5F975-37F2-451B-9469-A4735E7C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6BBD9-4C62-418F-8FFE-0852E8C8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EA8F14-5B26-42CE-882B-EB6DCA11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836D3-133B-4D06-A760-1F108F5F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38D85-E0F7-4D5C-A30A-A21CEF7E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66377-7977-4832-B37E-48438D7C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2C8A8-C3A2-4085-B562-52C45DCF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B38B8-E317-4297-AEA9-DD21C09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99A0E-5CE0-4D65-B4CA-0690AFC0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76E3F-904A-48D5-BF4A-32A24992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3C72-1C5B-434A-93BC-51E0A87F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38486-7591-4213-A548-06748896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9F988-1BBE-4DB5-A79D-46499833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7E965-265C-4172-BFB9-407DA8D8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9771B5-1A69-44CD-B244-87F0B936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F82B5-3D7F-4951-BA68-9A7D2C05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62AFC-3160-4B0B-BDFE-8B9716C4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3DB1D-CB82-4FAF-A692-95A9BA14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196A1-4C5F-40C4-840F-71A21876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E75F1-46D9-4ACE-9976-71DD3634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BF2FA-ECDF-41E3-8600-817F05B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4F4A-2C8C-4BF7-B1CD-99EAE0AB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21A2-5E83-4E65-945A-95D23BD5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85FBD-F9DC-43A0-A1EA-04FD71DA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D33B9-AB31-41AB-8E68-0828D7F2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1FB375-EE7F-46D2-9E7B-10B9C880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5B1DB-606E-40C3-B220-4C6B1B33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CCE26-B29E-4503-941A-4EF79C78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14D233-F395-4734-8D68-66B2C35A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02A4B-D991-4DA2-9CE0-0C4167A8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8BA77A-D009-4A58-AB02-BC28933C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7B7AB-2A77-4C8D-AAFE-0CA883DF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426C6E-4D75-4BB5-9DF7-BD77DDAF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C954-D84D-4649-83A2-DE6F975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7A391-4769-4B00-BCFC-201A125E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3FB01F-E23A-49A8-A2ED-EECCD1EF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18D9A-3569-4CCF-92A2-A278B18C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69C34-1AB3-44C6-B3EE-50FC5557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15F98-A608-4B45-996A-AA10688E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6AB7B-893C-4F12-80B4-36F3A612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A257D-9AA6-41EB-BB7B-125A01CF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8799E-A9C2-401E-A03C-1BE64B37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B5784-190E-4711-96D5-01CFC597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446C80-FC91-49AC-9179-3361CF7D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670C-6BA1-45B0-BA97-672A5B13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20B97-1784-4A43-8743-50B7AF89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BCB1B-86E2-4510-9DBA-DB64AE56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98E196-F191-4B23-AB77-A63A5BE7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CCF58E-D919-440F-B349-704800D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97524-6CF7-4C84-8F22-AB52B5C0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B403D-1ED4-4CAA-A67C-F66D8FA2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F7C5D6-52A4-4389-B16B-A33ADB4B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0E2B5-C74C-4BBA-8C05-9EEE1A8C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9665AB-0234-4FEB-BCF5-2DC56957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CE365C-755F-43D9-B046-B323953F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BC2B-8E89-4049-B133-1C5859F5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0CF91F-0DA7-4BBB-AB4F-BEFF53B2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C41DB8-C285-4E49-9E88-17697A2C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934013-8BF8-4911-BB35-7CC7CBCF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B43EF9-CEB7-438C-970A-40EF2D9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FCEEF-46DE-4CB9-9D6C-BEB191D4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27AE9-9E6F-48D8-8D42-86B3C6A3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EC238-5DE6-42AA-BF18-1CA21AB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C1238-AE9D-4F54-B787-1B56A20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C70790-B525-4C94-B31D-9B3D1D7D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C45FE-0548-4227-BE52-76470D62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CA18-79E2-48AD-AFF3-51654322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59CE8B-F404-468F-88D1-2D57652D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792BE3-C001-4B2C-B34C-F4AD7FDE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A8D6C-0B7E-449D-B26A-EECA9A11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7F822A-26A8-4D0A-A298-C5802268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955B21-B7A1-4036-B51E-BB0AB57B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A3A5F8-B826-4384-812B-D18CF482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C3FFE-326D-4CD9-85CC-093022D2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871CC4-D4E2-40C2-929C-C87EEAB2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5D5990-B2A3-4684-8FF6-4C968BC2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1B2DCF-F100-448A-8A0B-A2757805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BE7A-A2E7-4766-BFA5-63DEF8CB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761AC8-419C-4904-A1BC-1837418D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75B414-9CFE-4E25-A14C-F253310A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FDBE68-C7F3-45D6-B412-E5408132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926E1B-85FC-4971-9D72-91B42D69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55A9BB-A4F1-4A6F-97B8-7CC37D79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1FAB42-18A7-4B3A-B137-86F300A3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D51A25-05A1-455A-BB47-839005D6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6DBE0C-7B48-4E7E-89B9-8B523F25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743433-1064-4BB3-9EC8-A8A4AE74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E7478B-E407-462C-93CA-C88DCB66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7A303-2082-40ED-97FD-96E1B017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979DA0-51E2-435F-96F0-2B9E8032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90699E-4360-48C8-B1E7-C857BA62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113F96-921F-49D8-AFFB-28B9AFC0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AD9331-1310-49C6-A8B9-8CAF3D2B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7D198A-2E41-485E-BDEB-931803D4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86839A-BDC6-4875-B549-3745733A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344D34-DAAB-48E9-92BD-5BCC5564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87D32-4D22-40DF-905E-96A4FF68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9140AC-D327-40AC-ABAB-4C1D7D1E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7A398C-3E09-45B9-AFE8-D36D3F45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85C1-6243-4A5D-9E74-BF88DB13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7C8BAF-80ED-40F3-8FFD-D7444CC6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A2E748-14C4-4E9E-B9EF-02524090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010F7B-D1BC-4EA9-898A-DC2FC052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6FB325-3016-4A2D-B4F9-DEE5B94B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A2B190-6091-401D-90B2-3BE2376A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54DAD0-629E-4A06-AD5C-B3AC671D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84FD56-809C-4245-A521-94E19D9A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F63BA9-0D1E-4160-ABE0-792BA1DF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974B80-0465-4774-BE08-4FF1EB85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E48716-287B-4A54-B357-43630E6C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66AE-0F84-4AB6-9F26-A201059C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788E55-ECFF-4FC9-A78F-9989A064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4369AE-2696-4476-8032-2BF22BC0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E3E4A3-CAB5-4926-B522-2747029C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2D4AC4-ACE4-4A0A-9E4F-52EDACCC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7B6CA6-7D61-442C-8846-28DDE4E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BDFA9C-527F-4799-83A6-E10554A1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BD94B9-CB00-418F-8331-5580A323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4813EB-770D-4BD3-A18A-F05377A4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C6469E-BE05-4AB7-A74E-34363517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2BED56-89E4-4347-8CFE-F970DC71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D50F-E1F7-40D9-891B-C17E7769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4B7E3C-639B-4B4E-B579-87868760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201843-412B-4412-BF42-69B95D5C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BE31C5-0858-4495-8613-AF6A4638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F8921D-287D-45CC-849A-10616220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E5F532-53DA-4032-AC96-9B2A45D7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E75544-C9B1-442B-A0EB-3D99795C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7BB704-0093-435A-AE32-A9C07E68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9C1765-B8A5-4CD4-AA68-395310D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AF561C-0EF7-40FD-8969-CC304B8C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205D68-8446-4889-BACC-A8F88E0E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E464-CEE7-4BC2-85BA-23E99049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0A8C-206D-4C9D-945D-D711CA1C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DB757B-9881-475A-B8C8-580BC2C0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BF2807B-D9B2-4E06-B797-56140A1C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7803418-34E3-4D11-AD93-79F754D4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52F2199-2CEA-40DA-92FC-2C5156D9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390A46F-B6BA-44A8-9277-2B7E503B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0490348-14EC-496D-9890-C412DA69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599E0A2-1884-4664-89DD-14DAF3A8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FEB90E5-7912-458D-8246-595D31B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1ADC8F2-92B2-4DDE-BC36-71AFCA3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12D3714-D98B-460F-AF92-B2205CEE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5B0C-6CA2-4E2C-B639-16980A27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DD873D9-CE17-4711-8598-9D732914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898E29-7E83-4BB8-9CE7-B25F51E1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B84E0B-0F77-4337-A4E6-F49067EE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776FC4-0B0B-4306-AAF8-7DB49E0D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1C93F7-9E08-4EFE-839A-B0A7D8B2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5BD322-7DB2-46C9-A8BD-8E8114AA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2C6A3D-F402-48F8-961F-593158E9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45AD0C-18C1-4C21-ADB9-9904E0D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C084BD-6B05-44A3-AC0C-841CA22E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19CA7B-78F4-405E-8C1A-67DCBC74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387C-E91A-4BA5-B95D-531FC896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83C9D4-D098-4C21-B264-1C44E06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5584B8-FAEE-4DDE-BCA9-F404CBAB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A8DDDE-82FC-456F-BB02-763313AF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677451-1D0B-4905-9F44-FC4CEE53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4E85B5-BF60-4A8A-9039-2D32C2A2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309AD9-38AB-4EA1-98D8-ACA049B1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03431D-B772-4D34-9106-7E58C61B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CF5A19-C592-497D-BB15-7AC164C2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B04D19-F9C7-40F6-A3F3-A703A104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760425-4384-4E5F-A4C1-072669C4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E5118-9708-43E3-B0EB-DC8B076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54D8AB-5447-4076-A9FB-220481B0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397265-632F-424D-8C9C-A3E67955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8EDD8D-12AE-4330-9665-838735A3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D39061-C27F-471D-A0FF-562CCF78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E5328F-FB12-48AE-B6B0-67828C3B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1B4EE2-0F92-41C5-83D8-E5D39575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294A7C-0178-4F8F-AC63-E2BE0C43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855729-C700-4193-993B-3D7B21EF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F62C3F-6C52-454C-8519-939432DF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4DF1F9-A151-45AC-B0DE-D7C791E8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8AEB-B8CB-494F-B13F-2240BA24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E085CC-71AD-4AD0-A453-DB6443AD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729A19-1305-4CF4-A70C-D64D088B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51C8CA-FF4C-42C6-AEE7-1AB26FB4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172716-EA03-4CCC-BFAB-EF1D593B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BCB888-6E75-4932-AE84-D1629F9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3A92D4-44BA-4B12-97BA-F397FF37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8B875F-5896-4613-AAF3-14790067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BBDBD0-40F6-4C3A-9EAD-477E8FDE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FC2A33-C4DB-4B06-8D3F-21AB4CD9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5EBE52-14D0-40B9-AEB6-EA1E75F0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CCD8-320D-4EDC-B463-C878C854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A0667D-1A43-4274-BFBD-A829FB22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6DA114-39AE-4ED7-B2D6-B297031B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48E010-B900-47BB-98DA-39D4EB76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ACE341-5FC4-42B6-AE7B-117036B9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ED74BB-375F-47E0-A7A4-9135DE7A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3DA496-7FDC-49AA-A061-6D65F95B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2F5C5D-BC8E-4342-B4B3-8AF417A5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2F8183-B2FB-427A-8E9E-DDA75EDF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629D57-31F6-457C-8601-3A459D8D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ADDDA8-1E4C-4C7C-8798-1AE719CC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428B-DBA0-4624-B628-5388CED0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B29D85-3858-431A-BE9D-3FC8CC89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63885C-15D4-47C8-929C-F0862DF4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3DE046-7168-4C03-B218-58911F0F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655BD5-D32F-4D20-AE2D-D370B8B5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BD7A7D-9D91-4953-9364-FE9DE839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6E3F0E-CF74-4A6F-A662-D9F934B9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6BF84C-D4E9-4879-95E5-76E6D922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475A78-CCFB-449A-BCB5-8A5FB69A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8A439C-0820-4148-B56E-07795FDA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86E9D6-72EA-4439-95D1-6FEDF39A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16839-226D-4618-8957-38901D82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6BE953-2E72-4664-9B0C-63097CC2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2B63D3-F5B4-4D7B-A4E1-2E3CD3A1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164128-FB28-4647-8F5E-BCAA8258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FC13E9-5043-48EF-BB37-3B914444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8C7B74-09DE-4CB1-A3F3-ED73135B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21ED65-D245-4967-84D1-3E4AB087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96E650-1669-49A8-A95D-F27A38A1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0F971D-613F-4217-B0A4-078F23CF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4DA9D8-C065-41DA-B48A-A5F89A30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EEC670-8A2E-4D09-AA00-EB7956A4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545C1-C3D5-4998-AF5E-2E2BD4FC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71D5F2-6A1A-477D-B1B8-89ADDBD0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813506-3E19-4DA6-AFC3-40A819E9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5078BE-CE02-4D32-ADEB-61D3D7F2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A00C05-2865-4B1C-A763-5F29D2DB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9C83A8-94FD-4311-AD64-C064F07F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5FF667-6770-4B12-BADB-7A723A23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0A8931-8A77-41C8-B3AC-AE9A2548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CECBF5-90C3-4829-803C-0E49A2CE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41AF5B-7F0E-4E92-9212-25418766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B3F120-F412-44CC-B610-E2094346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D06B9-74E5-4B08-8C11-F0F29E6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F1207C-C039-4D65-9451-87EAA55A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B7470C-7878-4AE7-9453-CC7DDF5F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A43B7F-8C59-459C-96AA-26759C5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7C927B-43ED-4BC6-BCD3-F36227DD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DD4003-EFD9-4625-AC77-F34F7DC2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192555-AE81-42A4-BF43-207F4DB9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107FFB-9167-42BD-A694-6F958DC4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4BC805-A69F-4C78-BF92-859992AA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DD7E6B-18AC-469E-9D75-1BC9184A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2DF087-EEFD-4207-AF43-4DE8A821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702A-D987-4A48-87AE-DCA93000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0AC1A-3B7A-4D9C-A8B7-E7A088D8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DEC85B-1C46-4CF8-92E2-770DAB60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09DDF3-360C-4064-A225-3EA810BB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432C9C-3C89-4CD7-9400-058104ED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5769CA-2C03-400A-B71E-431DBB4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2118BC-6E25-45FC-8F82-15CF0FDA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7F0E86-28DD-4735-9E8D-E548DA0D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635B2A-CB80-4A25-95F7-D75BA7D0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608F0A-D092-433A-BD45-CBD041C6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4C0D83-B10D-4D33-BCC6-B5401172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40BE9B-B07F-48A3-8B9D-D864A907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6AE77-617C-4CAA-8C08-7E1330EF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6F3D12-7260-417E-8E76-C3EF68D0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748407-5EF4-4623-B60A-08DA259D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6DDA42-3C45-4097-BBE6-1BA6F56C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BF46DC-A40E-4CB4-A29F-62F9FA62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16DA65-9077-4F45-887A-A1D2664A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B7C7EC-6EE5-4161-AAD2-43D6F023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45459C-B29A-4A64-8D61-26775B5A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0713AB-2B6D-4E20-BFE2-7B30642F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30F2D5-6477-48F5-B0B0-51E26C36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59A6E7-3F9A-4F59-89C9-B4E95F09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66FDE-63B1-4323-8985-1DE6B56A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E323C3-8AFC-48B7-9A15-8E0B83B9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E07C54-212C-4AA3-8162-58450230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003465-674A-4023-A7E8-8A6655A1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B13F3B-3C21-4F66-B551-03D51F4E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CE6FDE-9DE0-420C-96E1-EC481F68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3A9DA2-1148-48F6-9272-F25BE85F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840D51-61ED-4D63-BCF9-231463DA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251A74-FDFE-4416-BF68-754F19D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A2FE71-330B-43F7-A8F1-957D1CC3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A7D6A0-C313-4A80-AFD0-70F47550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CE313-4BF7-4C15-B733-C0270369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B75BC6-FD85-44E2-A85C-80F7A875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DA1164-F02B-4B8E-B8B7-B61D3E81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2D54FE-9B40-4BC4-9E26-97B30318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F02118-B919-4BAD-A509-C282B3C3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284160-350A-4793-B3FC-F940D58F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B1E0D3-3FFE-435A-9C98-7501F323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56BE99-0407-4D7A-A1A1-A894632D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68942D-FBB0-4CDA-9561-3C0E4441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672ABE-F899-4325-BAB5-5CB6F621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B9B674-7E48-407C-8A83-5B94B5B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C226E-8493-46CC-8A58-6E59A983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BF0B73-69A9-4568-9E30-121F240D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40DFBD-8AEF-4E22-B887-52DC50BF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F0C0A3-F300-427B-B396-ABE46CD7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6605DF-B76F-4B06-BD4D-6129B342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8EF403-022D-4DFE-8BF5-87D5F28F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481A6F-5063-47E9-A5CD-4F00DB23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F68CE2-3AFD-4571-B154-62ED8CC3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41785D8-4CD3-47C0-BE7B-7D8F40F7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0F16E9-0A08-4257-A6B6-7BE56DF2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9D1A92-366D-48D5-9607-65847E86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341AC-76D4-47E5-BE32-89E2BEB1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5A86F1-3BCF-41B1-A07A-8A3AD94D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56FDD0-2DC8-416D-8F07-EA48D574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5BD1916-FA5D-4F5E-B68D-43B6CC35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314C24-E8A5-4DF2-BF2D-E5DFEBA9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481D05-BDC0-43E7-96E4-37D6D022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84F1665-E46A-4AD4-9E5B-A3B96914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53951F3-133E-4E8C-91E6-BFB6F47B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D75F9-F886-40CB-966C-1CC6F527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01A0F8-D8D1-46F7-B8F1-BA3D287B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AEDED-87FB-45D3-B5CF-FCF698C3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F73E1-38B6-4591-BA42-83223D9C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4544-0592-4804-BB9E-59FD7240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BB00A-1A7B-4817-B7BA-CF2FCA0B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9C8C6-01D5-411D-AD9D-917FE482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D908E-CCB5-4C5A-BE1D-952E4221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E529A-9B38-4EE3-9871-7F73FFE0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56C5D-8AB0-4716-B5E2-B6AC3ECE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6B783-1B08-46D2-A0AC-4AE0A8E6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044B9-A0B1-4E60-885D-42DC6B2F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D776A-54DE-44F9-B875-EE4EE855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79FEA-F048-4DE3-8D67-E5726390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26AF0-1A39-49AA-BD05-9360BF57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2266-9ED6-4B62-8DE2-B192B84B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AE4C8-9F86-4BF8-9824-6835F426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32DD0-089A-4C75-A94F-F02901A6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0781BE-1611-4216-8CA5-EAAE30D1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DC440-C5E5-4B23-92B8-C07730A0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B26AA-29C3-4876-93B1-25C4D730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C9E3B-92EE-4DAA-B14C-41CFF51A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72E6F-6BE8-4C75-B696-218991EF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450D2-7A51-4080-8EA4-CFDB3E24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BA63F-4095-45DD-A0B4-B22AD19C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CED9B-49BE-4A34-BC50-B98CB5D5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3494-BA40-4D4A-A641-B28F3674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CFF38-132B-49B1-A45F-15A27F68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42D37-40B7-45C5-BBBE-BA40AD5D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E289A-EC0D-4895-944F-E9AF46A2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4D5996-77A1-4F26-8CD1-715F9951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E02E0-2745-4682-B0EA-0A1F4A54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34D05-6497-49D4-ACE6-55AE239C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A3C18-3082-4390-BBDD-9E229AC0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0BA49-798F-4AFE-A33B-73CD52DA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BB419-6D59-4117-B82A-92C88171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F3CEB-4405-44AA-9DB8-0C4F2E7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0C32-176A-4B66-B27F-FC22CB71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2E043-9AAF-464F-9AE2-6130D2E9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EDDC9-D18F-4C33-AC44-54C6687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F9484-11A9-4804-A919-37E2A954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A909C-F55E-4A55-BE17-5638814B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0EC25-E78F-4BA5-A0B4-A2CAF627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55D77F-F056-4AF8-AD1E-D7884054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0C4EB8-73A4-46C9-8C58-9A766374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B3210D-2494-45F7-8F89-A7238DE9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8ACDBA-54DB-4E26-A207-551B18A2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F4C667-71EA-43AC-9575-D3996B7C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42FF-9C51-4881-8440-E4EE3379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3E198A-C77E-4A19-9174-25F19AC2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188548-9427-478B-9CA7-96725587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D0CAFE-49A0-4EB3-B84E-D1EE3941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64BAD3-A269-4D63-B281-DFF77E4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55BE3B-9F77-4E8A-B1E5-36B85148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4CA6E5-D219-4290-BD05-8556CAB9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34B228-2548-40E0-9531-AD0AB1F2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9B2AE4-15FB-4F98-AC95-F88C8D73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52B965-BE6E-47DB-AA5B-25C347CC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F0B0E0-2D1C-42E2-A4BD-0ABB0173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0D1F-A0D7-4BBD-B55D-8690B8A1DDB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7BF2-4253-429E-AE6D-AA36BB6F5B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0F4C-865B-4192-B38A-1BC8C194383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D1C1-A3EC-4CAB-B9E9-960816222C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AD43-C4C0-4AF7-A8B6-746276EFD25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3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CEFC-E751-439E-B81F-A6CC8FE530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A0AB-A70E-460E-8948-1606086DA18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2839-20D6-4323-9433-AA93DAF869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028E-AF44-46A0-898F-0BB9A1DD3FD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699C-A37C-46A2-A36B-E4E0F8CDD9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5BE0-9F23-49E1-89F0-DC9ACE40E85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4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E061-2EB7-463E-ACA6-86C436AD86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C6D1-C0CB-4A1E-BE2B-62E9F08E331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47A2-5154-41DC-9C58-F88809459E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B86F-B502-412B-8C84-8AA946D62AE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B281-E896-4632-97ED-A8278A29F7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3941-2CB7-436F-8F02-19A0D03142F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1D1C-79E0-471F-97FD-4F610CB0DA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2250-D1A5-41EF-84A2-ACFD5D79385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F43B-7F96-4D36-9A66-EFBF2F6E8C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93E1-3305-4349-AA5C-778735AD580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34AF-45ED-409C-AB67-D8E4A4C376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F7B2-384F-41BE-B402-F22A4DC861C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7D4C-CD6F-435B-8DC3-DE92747F97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69E4-5B64-4B79-B9A2-8BF2DBE1F7E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DB9D-0267-47AF-8BB4-8C148604FB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B04E-52D4-4909-930A-A42E71D0347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ECCA-5364-4F04-9D6E-36B39AF0B9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4752-477F-41A5-BD81-E884C82EEE8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DCC3-4198-428A-B08A-AA1333D9CD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09F3-EAC5-4281-9373-097ABE1F83A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C7AC-FF2B-4C17-ACFF-04766EEDC3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D955-7B8A-4EB5-AA17-89966398FBB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FDA2-EA69-48BD-BA3B-F38F4B9B9A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C969-4E84-4B67-89F3-AF6EBD41AEE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1ABA-4A36-4AC2-920F-533C2BAD7F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DD90-1D4D-4AD9-93DA-47A047E6BF1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7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BE98-0832-4CD2-888D-603F17CF30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ftr" idx="7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F906-A13C-4F6C-A18F-5CC9660DADE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CD3E-D7F3-49CE-A67F-294B606159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24EE-952E-4038-8809-7E744B26649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40B9-8BAC-4750-9B15-4962D28B5C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21C2-1021-403D-A002-1AF6D0650EF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60F8-6191-4DBF-8B4E-B34A116684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4370-D9A9-495B-A2EA-9C1B8B2C251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4DF0-F26B-4578-BE87-375FFB8837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AF32-AADA-40D9-BD57-2E0C3DC8E6E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378A-8CEC-4A48-BE98-DB34986855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AB1D-EAC2-49C6-B599-E2FA828A972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F65F-BB42-4119-AAB6-72D500E717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A545-003B-4E0B-ADBE-29AA15433C2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5226-111E-4784-9932-13890B86E0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2016-C375-462A-9E86-C93F5065E76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1036-F5F9-499D-8851-CFB439FDEC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279B-396F-4816-BBD9-8A630A84F1B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EEC0-7C28-4B3E-A6B1-98E6BF4EA5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0CDC-F4AF-4E69-90D7-CF6BA7E8A8D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0736-4353-4FFD-B5DD-EEC00710BB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6734-5104-4185-BD4C-822480874EB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3714-B208-48F6-997D-7D9DD11143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84D7-2C5E-4916-924E-774CB7AAE84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54D0-500C-408F-92EE-E2694F4393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2EF7-6502-4BDC-A273-312E1CDBE2D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BF0A-60B1-4C58-AD7A-9538DDA5AC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DA3B-83D9-4EEB-86BE-DD241294E2A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3696-759B-4583-AAEE-E1C431897A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D9DE-00A3-4CAC-9255-8FEA94F5F46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6E4C-0A68-49E0-86FB-633A1A29C9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4406-2072-4397-BA04-FD71033C9C2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DC05-AEF6-4EB3-90F5-D69E4C7276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FB46-FC22-4826-914A-EAF4BE40191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2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6917-38DB-41BE-B44F-9E2CC4EC41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1F2D-15C9-473A-8230-0629B5C214C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350E-2FE6-436F-B5B1-DBCA87EF80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357C-8051-4007-9F80-283F5DD2F24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449A-8226-410E-B807-E5C5CE920F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рямоугольник 2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5"/>
          <p:cNvSpPr/>
          <p:nvPr/>
        </p:nvSpPr>
        <p:spPr>
          <a:xfrm>
            <a:off x="0" y="1523880"/>
            <a:ext cx="9144000" cy="3200400"/>
          </a:xfrm>
          <a:prstGeom prst="roundRect">
            <a:avLst>
              <a:gd name="adj" fmla="val 82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формационно-просветительского проек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6"/>
          <p:cNvSpPr/>
          <p:nvPr/>
        </p:nvSpPr>
        <p:spPr>
          <a:xfrm>
            <a:off x="0" y="103320"/>
            <a:ext cx="914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епартамент образования и науки Тюменской обла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Прямоугольник 24"/>
          <p:cNvSpPr/>
          <p:nvPr/>
        </p:nvSpPr>
        <p:spPr>
          <a:xfrm>
            <a:off x="0" y="0"/>
            <a:ext cx="3279600" cy="68580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570D-8809-4DF5-8432-AD9A690D9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Скругленный прямоугольник 16"/>
          <p:cNvSpPr/>
          <p:nvPr/>
        </p:nvSpPr>
        <p:spPr>
          <a:xfrm>
            <a:off x="-11160" y="641520"/>
            <a:ext cx="3260880" cy="1573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цепция информационно-просветительск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18"/>
          <p:cNvSpPr/>
          <p:nvPr/>
        </p:nvSpPr>
        <p:spPr>
          <a:xfrm>
            <a:off x="4680" y="2225520"/>
            <a:ext cx="3238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alibri"/>
              </a:rPr>
              <a:t>апрель 2016 г. - май 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2"/>
          <p:cNvSpPr/>
          <p:nvPr/>
        </p:nvSpPr>
        <p:spPr>
          <a:xfrm>
            <a:off x="3524400" y="2214720"/>
            <a:ext cx="535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развитие интереса и популяризация знаний о ключевых исторических событиях и лицах Великой Отечественной вой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активизация просветительской работы среди обучающихся через востребованные детьми и молодёжью формы и методы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использование информационных ресурсов региональных СМИ в гражданско-патриотическом воспитании детей и молодё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рямоугольник 4"/>
          <p:cNvSpPr/>
          <p:nvPr/>
        </p:nvSpPr>
        <p:spPr>
          <a:xfrm>
            <a:off x="3770280" y="2221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Прямоугольник 5"/>
          <p:cNvSpPr/>
          <p:nvPr/>
        </p:nvSpPr>
        <p:spPr>
          <a:xfrm>
            <a:off x="3794040" y="633240"/>
            <a:ext cx="52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формирование у обучающихся гражданского самосознания, сохранение памяти о героическом прошлом своей страны и Тюм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Прямоугольник 6"/>
          <p:cNvSpPr/>
          <p:nvPr/>
        </p:nvSpPr>
        <p:spPr>
          <a:xfrm>
            <a:off x="3795120" y="1819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Равнобедренный треугольник 44"/>
          <p:cNvSpPr/>
          <p:nvPr/>
        </p:nvSpPr>
        <p:spPr>
          <a:xfrm rot="5400000">
            <a:off x="3540240" y="34992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Равнобедренный треугольник 49"/>
          <p:cNvSpPr/>
          <p:nvPr/>
        </p:nvSpPr>
        <p:spPr>
          <a:xfrm rot="5400000">
            <a:off x="3559320" y="19548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ая соединительная линия 54"/>
          <p:cNvSpPr/>
          <p:nvPr/>
        </p:nvSpPr>
        <p:spPr>
          <a:xfrm flipH="1">
            <a:off x="3274920" y="0"/>
            <a:ext cx="28800" cy="68580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Прямоугольник 4"/>
          <p:cNvSpPr/>
          <p:nvPr/>
        </p:nvSpPr>
        <p:spPr>
          <a:xfrm>
            <a:off x="3887640" y="50292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рямоугольник 5"/>
          <p:cNvSpPr/>
          <p:nvPr/>
        </p:nvSpPr>
        <p:spPr>
          <a:xfrm>
            <a:off x="3911760" y="544032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дети школьного возраста, студенческая и рабочая молодежь, родители, педагоги, общественные организации, государственные учреждения различных проф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Равнобедренный треугольник 43"/>
          <p:cNvSpPr/>
          <p:nvPr/>
        </p:nvSpPr>
        <p:spPr>
          <a:xfrm rot="5400000">
            <a:off x="3658320" y="515664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рямая соединительная линия 10"/>
          <p:cNvSpPr/>
          <p:nvPr/>
        </p:nvSpPr>
        <p:spPr>
          <a:xfrm>
            <a:off x="3911760" y="167652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Прямая соединительная линия 51"/>
          <p:cNvSpPr/>
          <p:nvPr/>
        </p:nvSpPr>
        <p:spPr>
          <a:xfrm>
            <a:off x="3911760" y="495288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Прямоугольник 3"/>
          <p:cNvSpPr/>
          <p:nvPr/>
        </p:nvSpPr>
        <p:spPr>
          <a:xfrm>
            <a:off x="246240" y="3475080"/>
            <a:ext cx="278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 Light"/>
              </a:rPr>
              <a:t>Тематически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Прямоугольник 19"/>
          <p:cNvSpPr/>
          <p:nvPr/>
        </p:nvSpPr>
        <p:spPr>
          <a:xfrm>
            <a:off x="522360" y="4319640"/>
            <a:ext cx="24541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Прямая соединительная линия 20"/>
          <p:cNvSpPr/>
          <p:nvPr/>
        </p:nvSpPr>
        <p:spPr>
          <a:xfrm>
            <a:off x="598320" y="3048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Номер слайда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BA5A-DB19-41CB-A1A7-56D17C791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2"/>
          <p:cNvSpPr/>
          <p:nvPr/>
        </p:nvSpPr>
        <p:spPr>
          <a:xfrm>
            <a:off x="144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ты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Прямоугольник 19"/>
          <p:cNvSpPr/>
          <p:nvPr/>
        </p:nvSpPr>
        <p:spPr>
          <a:xfrm>
            <a:off x="3525840" y="685800"/>
            <a:ext cx="2546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Calibri"/>
              </a:rPr>
              <a:t>Сайты образовательных организ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Прямоугольник 20"/>
          <p:cNvSpPr/>
          <p:nvPr/>
        </p:nvSpPr>
        <p:spPr>
          <a:xfrm>
            <a:off x="152280" y="685800"/>
            <a:ext cx="2971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597a0"/>
                </a:solidFill>
                <a:latin typeface="Calibri"/>
              </a:rPr>
              <a:t>Площадки популярных социальных с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Прямоугольник 22"/>
          <p:cNvSpPr/>
          <p:nvPr/>
        </p:nvSpPr>
        <p:spPr>
          <a:xfrm>
            <a:off x="6378480" y="685800"/>
            <a:ext cx="27655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Образовательные и иные заинтересованны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Straight Connector 28"/>
          <p:cNvSpPr/>
          <p:nvPr/>
        </p:nvSpPr>
        <p:spPr>
          <a:xfrm>
            <a:off x="727200" y="157176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Straight Connector 28"/>
          <p:cNvSpPr/>
          <p:nvPr/>
        </p:nvSpPr>
        <p:spPr>
          <a:xfrm>
            <a:off x="3984480" y="1566720"/>
            <a:ext cx="169560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traight Connector 28"/>
          <p:cNvSpPr/>
          <p:nvPr/>
        </p:nvSpPr>
        <p:spPr>
          <a:xfrm>
            <a:off x="7004160" y="156672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Прямоугольник 34"/>
          <p:cNvSpPr/>
          <p:nvPr/>
        </p:nvSpPr>
        <p:spPr>
          <a:xfrm>
            <a:off x="393840" y="1758960"/>
            <a:ext cx="2730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оведение конкурсов видеороликов, плакатов, стихотворных, песенных и иных художественных произведений юных автор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езентации исследовательских работ, выполненных школьниками и студентами индивидуально, в соавторстве, совместно со взрослы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Организация отчетно-новостной площадки - форума для предоставления широкой публике информации о наиболее интересных и удачных мероприят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Прямоугольник 35"/>
          <p:cNvSpPr/>
          <p:nvPr/>
        </p:nvSpPr>
        <p:spPr>
          <a:xfrm>
            <a:off x="3519360" y="1690560"/>
            <a:ext cx="26528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Создание интерактивных «копилок» видеоматериалов, ссылок на тематические порталы, методических презентаций, документальных и иных материалов для использования в работе педагогами и деть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Новостные площадки акций, проектов, отражающих специфику учреждений, территории, историю жителей родного города, сел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Виртуальные музейные «окна», основанные на работах детей и молодёжи совместно с родителями, общественными и иными организациями и учрежд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Прямоугольник 36"/>
          <p:cNvSpPr/>
          <p:nvPr/>
        </p:nvSpPr>
        <p:spPr>
          <a:xfrm>
            <a:off x="6504120" y="1758960"/>
            <a:ext cx="25146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Обновление («перезагрузка») работы районных, городских, школьных музеев (музейных комнат), библиоте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Работа дискуссионных взросло - детских площадок с последующим отражением материалов на сайтах, организация и проведение конкурсных мероприятий совместно со СМИ, массовых акций, открытых совместных занятий по заявленной тематике, флеш-мобов и д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Прямоугольник 3"/>
          <p:cNvSpPr/>
          <p:nvPr/>
        </p:nvSpPr>
        <p:spPr>
          <a:xfrm>
            <a:off x="71280" y="2430360"/>
            <a:ext cx="307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онно-метод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Group 38" descr=""/>
          <p:cNvPicPr/>
          <p:nvPr/>
        </p:nvPicPr>
        <p:blipFill>
          <a:blip r:embed="rId1"/>
          <a:stretch/>
        </p:blipFill>
        <p:spPr>
          <a:xfrm>
            <a:off x="3309840" y="396720"/>
            <a:ext cx="208080" cy="206640"/>
          </a:xfrm>
          <a:prstGeom prst="rect">
            <a:avLst/>
          </a:prstGeom>
          <a:ln w="0">
            <a:noFill/>
          </a:ln>
        </p:spPr>
      </p:pic>
      <p:sp>
        <p:nvSpPr>
          <p:cNvPr id="1607" name="Прямоугольник 5"/>
          <p:cNvSpPr/>
          <p:nvPr/>
        </p:nvSpPr>
        <p:spPr>
          <a:xfrm>
            <a:off x="3625920" y="30492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направление в общеобразовательные организации перечня ключевых событий (дат), личностей, подготовка кратких информационных материалов по содержанию заявленных в проекте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Прямоугольник 34"/>
          <p:cNvSpPr/>
          <p:nvPr/>
        </p:nvSpPr>
        <p:spPr>
          <a:xfrm>
            <a:off x="5486400" y="1376280"/>
            <a:ext cx="3276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ОН ТО совместно с 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Group 38" descr=""/>
          <p:cNvPicPr/>
          <p:nvPr/>
        </p:nvPicPr>
        <p:blipFill>
          <a:blip r:embed="rId2"/>
          <a:stretch/>
        </p:blipFill>
        <p:spPr>
          <a:xfrm>
            <a:off x="3365640" y="216360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1610" name="Прямоугольник 5"/>
          <p:cNvSpPr/>
          <p:nvPr/>
        </p:nvSpPr>
        <p:spPr>
          <a:xfrm>
            <a:off x="3625920" y="205740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стоянное методическое сопровождение работы педагогов очно и дистанционно в рамках реализации мероприятий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Прямоугольник 39"/>
          <p:cNvSpPr/>
          <p:nvPr/>
        </p:nvSpPr>
        <p:spPr>
          <a:xfrm>
            <a:off x="6000840" y="275760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Group 38" descr=""/>
          <p:cNvPicPr/>
          <p:nvPr/>
        </p:nvPicPr>
        <p:blipFill>
          <a:blip r:embed="rId3"/>
          <a:stretch/>
        </p:blipFill>
        <p:spPr>
          <a:xfrm>
            <a:off x="3389400" y="3535200"/>
            <a:ext cx="207720" cy="208080"/>
          </a:xfrm>
          <a:prstGeom prst="rect">
            <a:avLst/>
          </a:prstGeom>
          <a:ln w="0">
            <a:noFill/>
          </a:ln>
        </p:spPr>
      </p:pic>
      <p:sp>
        <p:nvSpPr>
          <p:cNvPr id="1613" name="Прямоугольник 5"/>
          <p:cNvSpPr/>
          <p:nvPr/>
        </p:nvSpPr>
        <p:spPr>
          <a:xfrm>
            <a:off x="3641760" y="342900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дготовка и реализация циклов тематических программ, видеосюжетов, радиопередач, мультимедийных и видеоурок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Прямоугольник 44"/>
          <p:cNvSpPr/>
          <p:nvPr/>
        </p:nvSpPr>
        <p:spPr>
          <a:xfrm>
            <a:off x="6031080" y="4313160"/>
            <a:ext cx="27651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ИП ТО совместно со 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Group 38" descr=""/>
          <p:cNvPicPr/>
          <p:nvPr/>
        </p:nvPicPr>
        <p:blipFill>
          <a:blip r:embed="rId4"/>
          <a:stretch/>
        </p:blipFill>
        <p:spPr>
          <a:xfrm>
            <a:off x="3389400" y="5175360"/>
            <a:ext cx="207720" cy="207720"/>
          </a:xfrm>
          <a:prstGeom prst="rect">
            <a:avLst/>
          </a:prstGeom>
          <a:ln w="0">
            <a:noFill/>
          </a:ln>
        </p:spPr>
      </p:pic>
      <p:sp>
        <p:nvSpPr>
          <p:cNvPr id="1616" name="Прямоугольник 5"/>
          <p:cNvSpPr/>
          <p:nvPr/>
        </p:nvSpPr>
        <p:spPr>
          <a:xfrm>
            <a:off x="3651120" y="507528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роведение конкурсных семейно-школьных и молодёжных мероприятий муниципального и регионального уров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49"/>
          <p:cNvSpPr/>
          <p:nvPr/>
        </p:nvSpPr>
        <p:spPr>
          <a:xfrm>
            <a:off x="6031080" y="586116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СМИ, ДИП ТО, ДОН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1" name="Group 38" descr=""/>
          <p:cNvPicPr/>
          <p:nvPr/>
        </p:nvPicPr>
        <p:blipFill>
          <a:blip r:embed="rId1"/>
          <a:stretch/>
        </p:blipFill>
        <p:spPr>
          <a:xfrm>
            <a:off x="5425920" y="231840"/>
            <a:ext cx="212760" cy="206280"/>
          </a:xfrm>
          <a:prstGeom prst="rect">
            <a:avLst/>
          </a:prstGeom>
          <a:ln w="0">
            <a:noFill/>
          </a:ln>
        </p:spPr>
      </p:pic>
      <p:sp>
        <p:nvSpPr>
          <p:cNvPr id="1622" name="Прямоугольник 5"/>
          <p:cNvSpPr/>
          <p:nvPr/>
        </p:nvSpPr>
        <p:spPr>
          <a:xfrm>
            <a:off x="3152880" y="668160"/>
            <a:ext cx="23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иноуроки Великой Побе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34"/>
          <p:cNvSpPr/>
          <p:nvPr/>
        </p:nvSpPr>
        <p:spPr>
          <a:xfrm>
            <a:off x="5718240" y="1811160"/>
            <a:ext cx="3276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ЗАО «Сибинформбю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Прямоугольник 3"/>
          <p:cNvSpPr/>
          <p:nvPr/>
        </p:nvSpPr>
        <p:spPr>
          <a:xfrm>
            <a:off x="239760" y="1862280"/>
            <a:ext cx="278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Прямая соединительная линия 51"/>
          <p:cNvSpPr/>
          <p:nvPr/>
        </p:nvSpPr>
        <p:spPr>
          <a:xfrm>
            <a:off x="473040" y="3021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Прямоугольник 52"/>
          <p:cNvSpPr/>
          <p:nvPr/>
        </p:nvSpPr>
        <p:spPr>
          <a:xfrm>
            <a:off x="425520" y="320040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</a:t>
            </a:r>
            <a:br>
              <a:rPr sz="1600"/>
            </a:b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Прямоугольник 4"/>
          <p:cNvSpPr/>
          <p:nvPr/>
        </p:nvSpPr>
        <p:spPr>
          <a:xfrm>
            <a:off x="3441600" y="13644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Равнобедренный треугольник 54"/>
          <p:cNvSpPr/>
          <p:nvPr/>
        </p:nvSpPr>
        <p:spPr>
          <a:xfrm rot="5400000">
            <a:off x="3240360" y="2372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ик 4"/>
          <p:cNvSpPr/>
          <p:nvPr/>
        </p:nvSpPr>
        <p:spPr>
          <a:xfrm>
            <a:off x="5649840" y="14760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рямоугольник 5"/>
          <p:cNvSpPr/>
          <p:nvPr/>
        </p:nvSpPr>
        <p:spPr>
          <a:xfrm>
            <a:off x="5381640" y="577800"/>
            <a:ext cx="345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Цикл фильмов и программ, посвященных знаковым событиям Великой Отечественной войны для показов и обсуждений в образовательных организац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рямоугольник 5"/>
          <p:cNvSpPr/>
          <p:nvPr/>
        </p:nvSpPr>
        <p:spPr>
          <a:xfrm>
            <a:off x="3274920" y="2492280"/>
            <a:ext cx="20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Уроки Побе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Прямоугольник 59"/>
          <p:cNvSpPr/>
          <p:nvPr/>
        </p:nvSpPr>
        <p:spPr>
          <a:xfrm>
            <a:off x="5781600" y="31496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Прямоугольник 5"/>
          <p:cNvSpPr/>
          <p:nvPr/>
        </p:nvSpPr>
        <p:spPr>
          <a:xfrm>
            <a:off x="5367240" y="2230560"/>
            <a:ext cx="34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Создание совместно со школьниками видеосюжетов для уроков истории по изучению тем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Прямоугольник 5"/>
          <p:cNvSpPr/>
          <p:nvPr/>
        </p:nvSpPr>
        <p:spPr>
          <a:xfrm>
            <a:off x="3057480" y="359244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Единые мультимедийны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ро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Прямоугольник 62"/>
          <p:cNvSpPr/>
          <p:nvPr/>
        </p:nvSpPr>
        <p:spPr>
          <a:xfrm>
            <a:off x="5821200" y="4554360"/>
            <a:ext cx="327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5"/>
          <p:cNvSpPr/>
          <p:nvPr/>
        </p:nvSpPr>
        <p:spPr>
          <a:xfrm>
            <a:off x="5418000" y="3568680"/>
            <a:ext cx="3497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роведение единых мультимедийных уроков совместно с региональным центром Президентской библиотеки имени Б.Н. Ельц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Прямоугольник 5"/>
          <p:cNvSpPr/>
          <p:nvPr/>
        </p:nvSpPr>
        <p:spPr>
          <a:xfrm>
            <a:off x="3057480" y="515448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дио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Наша Победа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о рассказ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войн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Прямоугольник 65"/>
          <p:cNvSpPr/>
          <p:nvPr/>
        </p:nvSpPr>
        <p:spPr>
          <a:xfrm>
            <a:off x="5843520" y="61358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Прямоугольник 5"/>
          <p:cNvSpPr/>
          <p:nvPr/>
        </p:nvSpPr>
        <p:spPr>
          <a:xfrm>
            <a:off x="5427720" y="4952880"/>
            <a:ext cx="3487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Радиовещание корреспондентов - участников фестиваля детских радиопрограмм «Птенец» на радиостанциях: «Радио России - «Регион - Тюмень», Вести ФМ», «Мая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Прямоугольник 3"/>
          <p:cNvSpPr/>
          <p:nvPr/>
        </p:nvSpPr>
        <p:spPr>
          <a:xfrm>
            <a:off x="0" y="0"/>
            <a:ext cx="255888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Group 38" descr=""/>
          <p:cNvPicPr/>
          <p:nvPr/>
        </p:nvPicPr>
        <p:blipFill>
          <a:blip r:embed="rId1"/>
          <a:stretch/>
        </p:blipFill>
        <p:spPr>
          <a:xfrm>
            <a:off x="4541760" y="85680"/>
            <a:ext cx="206280" cy="206280"/>
          </a:xfrm>
          <a:prstGeom prst="rect">
            <a:avLst/>
          </a:prstGeom>
          <a:ln w="0">
            <a:noFill/>
          </a:ln>
        </p:spPr>
      </p:pic>
      <p:sp>
        <p:nvSpPr>
          <p:cNvPr id="1644" name="Прямоугольник 5"/>
          <p:cNvSpPr/>
          <p:nvPr/>
        </p:nvSpPr>
        <p:spPr>
          <a:xfrm>
            <a:off x="2530440" y="65232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Детям - о войн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ольник 34"/>
          <p:cNvSpPr/>
          <p:nvPr/>
        </p:nvSpPr>
        <p:spPr>
          <a:xfrm>
            <a:off x="5195880" y="692280"/>
            <a:ext cx="3887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область сегодн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ольник 3"/>
          <p:cNvSpPr/>
          <p:nvPr/>
        </p:nvSpPr>
        <p:spPr>
          <a:xfrm>
            <a:off x="76320" y="18622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ая соединительная линия 51"/>
          <p:cNvSpPr/>
          <p:nvPr/>
        </p:nvSpPr>
        <p:spPr>
          <a:xfrm>
            <a:off x="76320" y="3006720"/>
            <a:ext cx="237780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ольник 52"/>
          <p:cNvSpPr/>
          <p:nvPr/>
        </p:nvSpPr>
        <p:spPr>
          <a:xfrm>
            <a:off x="25560" y="321156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ая соединительная линия 53"/>
          <p:cNvSpPr/>
          <p:nvPr/>
        </p:nvSpPr>
        <p:spPr>
          <a:xfrm flipH="1">
            <a:off x="2557080" y="0"/>
            <a:ext cx="11160" cy="68515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ольник 4"/>
          <p:cNvSpPr/>
          <p:nvPr/>
        </p:nvSpPr>
        <p:spPr>
          <a:xfrm>
            <a:off x="2793960" y="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Равнобедренный треугольник 54"/>
          <p:cNvSpPr/>
          <p:nvPr/>
        </p:nvSpPr>
        <p:spPr>
          <a:xfrm rot="5400000">
            <a:off x="2631240" y="8604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4"/>
          <p:cNvSpPr/>
          <p:nvPr/>
        </p:nvSpPr>
        <p:spPr>
          <a:xfrm>
            <a:off x="4768920" y="468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5"/>
          <p:cNvSpPr/>
          <p:nvPr/>
        </p:nvSpPr>
        <p:spPr>
          <a:xfrm>
            <a:off x="4433760" y="304920"/>
            <a:ext cx="46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с журналистами газеты  в школах, где готовились материалы проекта «Народная памя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рямоугольник 5"/>
          <p:cNvSpPr/>
          <p:nvPr/>
        </p:nvSpPr>
        <p:spPr>
          <a:xfrm>
            <a:off x="2490840" y="1846440"/>
            <a:ext cx="20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етевой подпроект «Улица геро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рямоугольник 59"/>
          <p:cNvSpPr/>
          <p:nvPr/>
        </p:nvSpPr>
        <p:spPr>
          <a:xfrm>
            <a:off x="5821200" y="2341440"/>
            <a:ext cx="3276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ИА «Тюменская ли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рямоугольник 5"/>
          <p:cNvSpPr/>
          <p:nvPr/>
        </p:nvSpPr>
        <p:spPr>
          <a:xfrm>
            <a:off x="4433760" y="1752480"/>
            <a:ext cx="460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Создание инфографических материалов и видеосюжетов о героях войны, именами которых названы улицы, на интернет - ресурсах школ и в социальных се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рямоугольник 5"/>
          <p:cNvSpPr/>
          <p:nvPr/>
        </p:nvSpPr>
        <p:spPr>
          <a:xfrm>
            <a:off x="2610000" y="2733840"/>
            <a:ext cx="182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 Сибири не было войны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Прямоугольник 5"/>
          <p:cNvSpPr/>
          <p:nvPr/>
        </p:nvSpPr>
        <p:spPr>
          <a:xfrm>
            <a:off x="4433760" y="266688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Разработка социальных проектов о земляках – участниках войны, трудовом вкладе в Победу, учителях-фронтовиках, выпускниках 1941-1945 годов.</a:t>
            </a: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убликация лучших работ в рубрике «Уголок России» в газете «Тюменская правд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Прямоугольник 5"/>
          <p:cNvSpPr/>
          <p:nvPr/>
        </p:nvSpPr>
        <p:spPr>
          <a:xfrm>
            <a:off x="4433760" y="944640"/>
            <a:ext cx="46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тюменских байкеров со школьниками с возложением цветов к памятникам погибш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Прямоугольник 26"/>
          <p:cNvSpPr/>
          <p:nvPr/>
        </p:nvSpPr>
        <p:spPr>
          <a:xfrm>
            <a:off x="5176800" y="1300320"/>
            <a:ext cx="3888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Мотоклуб «Ночные вол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Прямоугольник 27"/>
          <p:cNvSpPr/>
          <p:nvPr/>
        </p:nvSpPr>
        <p:spPr>
          <a:xfrm>
            <a:off x="5821200" y="3554280"/>
            <a:ext cx="3276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прав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Прямоугольник 5"/>
          <p:cNvSpPr/>
          <p:nvPr/>
        </p:nvSpPr>
        <p:spPr>
          <a:xfrm>
            <a:off x="2562120" y="3948120"/>
            <a:ext cx="20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Узнай Героя - земля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Прямоугольник 5"/>
          <p:cNvSpPr/>
          <p:nvPr/>
        </p:nvSpPr>
        <p:spPr>
          <a:xfrm>
            <a:off x="4433760" y="398160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в рамках акции конкурса на лучший альбом, стенгазету, музейную экспозицию, урок памяти, посвященные землякам - Героям Советского Союза, полным кавалерам ордена Слав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Прямоугольник 37"/>
          <p:cNvSpPr/>
          <p:nvPr/>
        </p:nvSpPr>
        <p:spPr>
          <a:xfrm>
            <a:off x="4592520" y="4971960"/>
            <a:ext cx="4505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Совет ветеранов войны, труда и правоохранитель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Прямоугольник 5"/>
          <p:cNvSpPr/>
          <p:nvPr/>
        </p:nvSpPr>
        <p:spPr>
          <a:xfrm>
            <a:off x="2660760" y="5559480"/>
            <a:ext cx="189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течества достойные сы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Прямоугольник 5"/>
          <p:cNvSpPr/>
          <p:nvPr/>
        </p:nvSpPr>
        <p:spPr>
          <a:xfrm>
            <a:off x="4502160" y="5334120"/>
            <a:ext cx="464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конкурса музыкально-литературных композиций на краеведческом материале; конкурсов музеев и сочинений, посвященных 105 годовщине со дня рождения легендарного разведчика Н.И. Кузнецова; конкурсов чтецов; театрализованных постановок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Прямоугольник 40"/>
          <p:cNvSpPr/>
          <p:nvPr/>
        </p:nvSpPr>
        <p:spPr>
          <a:xfrm>
            <a:off x="4748040" y="6386400"/>
            <a:ext cx="4158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Ветеранские обществен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нецова Наталья Александровна</dc:creator>
  <dc:description/>
  <dc:language>en-US</dc:language>
  <cp:lastModifiedBy>User</cp:lastModifiedBy>
  <cp:lastPrinted>2015-12-14T06:58:34Z</cp:lastPrinted>
  <dcterms:modified xsi:type="dcterms:W3CDTF">2016-03-28T04:19:41Z</dcterms:modified>
  <cp:revision>10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