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5" y="0"/>
                </a:moveTo>
                <a:arcTo wR="5" hR="5" stAng="16200000" swAng="-5400000"/>
                <a:lnTo>
                  <a:pt x="0" y="31542"/>
                </a:lnTo>
                <a:arcTo wR="5" hR="5" stAng="10800000" swAng="-5400000"/>
                <a:lnTo>
                  <a:pt x="21595" y="31547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5" name="Text Box 2"/>
          <p:cNvSpPr/>
          <p:nvPr/>
        </p:nvSpPr>
        <p:spPr>
          <a:xfrm>
            <a:off x="0" y="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dt" idx="4"/>
          </p:nvPr>
        </p:nvSpPr>
        <p:spPr>
          <a:xfrm>
            <a:off x="3847680" y="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body"/>
          </p:nvPr>
        </p:nvSpPr>
        <p:spPr>
          <a:xfrm>
            <a:off x="679320" y="4718160"/>
            <a:ext cx="543888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0" y="94312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sldNum" idx="5"/>
          </p:nvPr>
        </p:nvSpPr>
        <p:spPr>
          <a:xfrm>
            <a:off x="384768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9360"/>
                <a:tab algn="l" pos="73137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fld id="{7459DF81-04C9-4289-82EC-E83E34EB620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4804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A552B1-6400-4F5F-9E68-B8181AAF812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48040" y="9431280"/>
            <a:ext cx="29480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68FD3-7589-4707-AA04-5F1E6E42BB7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88B0-A44B-47A0-B31E-5F428D328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959-7DAE-43F9-B87A-717403AE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E09B-65D3-4D5B-864E-BFFE1A7C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C851-4CAE-41C3-A6F9-B7485FFE8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6730-84A6-4B0B-ADFC-8FC8D498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EC9C-A1CB-454D-A75B-A76A4E8DC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BC7B-E30E-41E1-97C3-DF2D0333E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7A87-0EB7-49AF-A8BC-CF1145BB8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E28E-045E-448D-A8F0-F8E8E8958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CF5-BBCF-4D67-A493-3E4BE3D4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0873-9F26-4B4C-8225-03DE71D3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F9E3-4D0E-4E38-9AD9-A9AB4875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2880"/>
            <a:ext cx="82296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algn="ctr">
              <a:lnSpc>
                <a:spcPct val="90000"/>
              </a:lnSpc>
              <a:spcBef>
                <a:spcPts val="1301"/>
              </a:spcBef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0080" indent="0" algn="ctr">
              <a:lnSpc>
                <a:spcPct val="90000"/>
              </a:lnSpc>
              <a:spcBef>
                <a:spcPts val="1301"/>
              </a:spcBef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01"/>
              </a:spcBef>
              <a:buNone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62C15BD-9836-4B99-BA76-9050523BC3F7}" type="datetime"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2640" y="6244920"/>
            <a:ext cx="2897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19796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98B5B62-7815-400E-93A7-6879970F5778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CustomShape 1"/>
          <p:cNvSpPr/>
          <p:nvPr/>
        </p:nvSpPr>
        <p:spPr>
          <a:xfrm>
            <a:off x="609480" y="907920"/>
            <a:ext cx="7956720" cy="108000"/>
          </a:xfrm>
          <a:prstGeom prst="pie">
            <a:avLst/>
          </a:prstGeom>
          <a:solidFill>
            <a:srgbClr val="297fd5"/>
          </a:solidFill>
          <a:ln w="9360">
            <a:solidFill>
              <a:srgbClr val="297fd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Line 2"/>
          <p:cNvSpPr/>
          <p:nvPr/>
        </p:nvSpPr>
        <p:spPr>
          <a:xfrm>
            <a:off x="609480" y="6381720"/>
            <a:ext cx="7925040" cy="1440"/>
          </a:xfrm>
          <a:prstGeom prst="line">
            <a:avLst/>
          </a:prstGeom>
          <a:ln w="3240">
            <a:solidFill>
              <a:srgbClr val="297f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600" cy="39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6720" indent="-29664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036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264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7492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97200" indent="-209520">
              <a:lnSpc>
                <a:spcPct val="90000"/>
              </a:lnSpc>
              <a:spcBef>
                <a:spcPts val="1301"/>
              </a:spcBef>
              <a:buClr>
                <a:srgbClr val="000000"/>
              </a:buClr>
              <a:buFont typeface="Arial"/>
              <a:buChar char="•"/>
              <a:tabLst>
                <a:tab algn="l" pos="841320"/>
                <a:tab algn="l" pos="1682640"/>
                <a:tab algn="l" pos="2523960"/>
                <a:tab algn="l" pos="3365640"/>
                <a:tab algn="l" pos="4206960"/>
                <a:tab algn="l" pos="5048280"/>
                <a:tab algn="l" pos="5889600"/>
                <a:tab algn="l" pos="6730920"/>
                <a:tab algn="l" pos="7572240"/>
                <a:tab algn="l" pos="8413920"/>
                <a:tab algn="l" pos="9255240"/>
                <a:tab algn="l" pos="10096560"/>
                <a:tab algn="l" pos="1093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1"/>
          <p:cNvSpPr/>
          <p:nvPr/>
        </p:nvSpPr>
        <p:spPr>
          <a:xfrm>
            <a:off x="250920" y="1915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c0000"/>
                </a:solidFill>
                <a:latin typeface="Verdana"/>
                <a:ea typeface="Times New Roman"/>
              </a:rPr>
              <a:t>Сводный график проведения независимой оценки качества образования во 2 полугодии 2018-2019 уч.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2" name="Text Box 2"/>
          <p:cNvSpPr/>
          <p:nvPr/>
        </p:nvSpPr>
        <p:spPr>
          <a:xfrm>
            <a:off x="8893080" y="6518160"/>
            <a:ext cx="250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6C5B87-A722-491E-88AC-62DA5032E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3" name=""/>
          <p:cNvGraphicFramePr/>
          <p:nvPr/>
        </p:nvGraphicFramePr>
        <p:xfrm>
          <a:off x="182520" y="1125360"/>
          <a:ext cx="8642520" cy="4945320"/>
        </p:xfrm>
        <a:graphic>
          <a:graphicData uri="http://schemas.openxmlformats.org/drawingml/2006/table">
            <a:tbl>
              <a:tblPr/>
              <a:tblGrid>
                <a:gridCol w="939960"/>
                <a:gridCol w="2609640"/>
                <a:gridCol w="1354320"/>
                <a:gridCol w="1515960"/>
                <a:gridCol w="2222640"/>
              </a:tblGrid>
              <a:tr h="36540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ме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а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Национальные исследования качества образова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,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ческая культур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.04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ыборка ОУ определяется РОН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российские проверочные работы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90440"/>
                          <a:tab algn="ctr" pos="73836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кружающий мир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6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ествознан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остранны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к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34" name="Rectangle 13"/>
          <p:cNvSpPr/>
          <p:nvPr/>
        </p:nvSpPr>
        <p:spPr>
          <a:xfrm>
            <a:off x="2394000" y="159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1"/>
          <p:cNvSpPr/>
          <p:nvPr/>
        </p:nvSpPr>
        <p:spPr>
          <a:xfrm>
            <a:off x="250920" y="26280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9920"/>
                <a:tab algn="l" pos="1084320"/>
                <a:tab algn="l" pos="1998720"/>
                <a:tab algn="l" pos="2913120"/>
                <a:tab algn="l" pos="3827520"/>
                <a:tab algn="l" pos="4741920"/>
                <a:tab algn="l" pos="5656320"/>
                <a:tab algn="l" pos="6570720"/>
                <a:tab algn="l" pos="7485120"/>
                <a:tab algn="l" pos="8399520"/>
                <a:tab algn="l" pos="9313920"/>
                <a:tab algn="l" pos="1022832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6c0000"/>
                </a:solidFill>
                <a:latin typeface="Verdana"/>
                <a:ea typeface="Times New Roman"/>
              </a:rPr>
              <a:t>Сводный график проведения независимой оценки качества образования во 2 полугодии 2018-2019 уч. года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6" name="Text Box 2"/>
          <p:cNvSpPr/>
          <p:nvPr/>
        </p:nvSpPr>
        <p:spPr>
          <a:xfrm>
            <a:off x="8893080" y="6518160"/>
            <a:ext cx="250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6E31E4C-886A-474F-9B03-7A8B0116AE3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7" name="Rectangle 13"/>
          <p:cNvSpPr/>
          <p:nvPr/>
        </p:nvSpPr>
        <p:spPr>
          <a:xfrm>
            <a:off x="2394000" y="15969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38" name=""/>
          <p:cNvGraphicFramePr/>
          <p:nvPr/>
        </p:nvGraphicFramePr>
        <p:xfrm>
          <a:off x="322200" y="1176480"/>
          <a:ext cx="8642520" cy="4983120"/>
        </p:xfrm>
        <a:graphic>
          <a:graphicData uri="http://schemas.openxmlformats.org/drawingml/2006/table">
            <a:tbl>
              <a:tblPr/>
              <a:tblGrid>
                <a:gridCol w="939960"/>
                <a:gridCol w="2609640"/>
                <a:gridCol w="1354320"/>
                <a:gridCol w="1515960"/>
                <a:gridCol w="2222640"/>
              </a:tblGrid>
              <a:tr h="3801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ласс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едме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Сроки 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ормат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проведен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Всероссийские проверочные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ествознан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1-05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8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-12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5-19.04.201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2-26.04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7360"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ностранны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4-8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трольная работа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Истор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Географ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Химия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-15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з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-22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Биология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8-22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мплексные метапредметные работ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356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Читательская грам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28-26.02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 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Конкурс-исследование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Финансовая грамотность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04-04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gridSpan="5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епетиционные экзамены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4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.02.-11.03.201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дания-аналоги ОГЭ/КИМ на электронном носител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2880"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Русский язык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Задания-аналоги ЕГЭ/КИМ на электронном носителе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Математика (П, Б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640" rIns="446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843120"/>
                          <a:tab algn="l" pos="1685880"/>
                          <a:tab algn="l" pos="2529000"/>
                          <a:tab algn="l" pos="3371760"/>
                          <a:tab algn="l" pos="4214880"/>
                          <a:tab algn="l" pos="5057640"/>
                          <a:tab algn="l" pos="5900760"/>
                          <a:tab algn="l" pos="6743880"/>
                          <a:tab algn="l" pos="7586640"/>
                          <a:tab algn="l" pos="8429760"/>
                          <a:tab algn="l" pos="9272520"/>
                          <a:tab algn="l" pos="10115640"/>
                          <a:tab algn="l" pos="109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  <a:ea typeface="Calibri"/>
                        </a:rPr>
                        <a:t>100% участие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44640" marR="44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9T18:58:48Z</dcterms:created>
  <dc:creator>Vladimir</dc:creator>
  <dc:description/>
  <dc:language>en-US</dc:language>
  <cp:lastModifiedBy>Пользователь</cp:lastModifiedBy>
  <cp:lastPrinted>2019-01-16T16:00:29Z</cp:lastPrinted>
  <dcterms:modified xsi:type="dcterms:W3CDTF">2019-01-28T09:26:54Z</dcterms:modified>
  <cp:revision>1355</cp:revision>
  <dc:subject/>
  <dc:title>Проблемы современной семьи</dc:title>
</cp:coreProperties>
</file>