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3EA2-6D02-400F-86B5-086FDD17F7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B905-25E4-4539-9428-2AF6F5329126}" type="slidenum">
              <a:rPr b="0" i="1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89F-1B17-4642-962D-66FA987A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368-9757-4123-B6E1-FAC69E92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A37C9-6E9B-4E74-A2EA-65B40BD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150C8-7AB7-4CC4-ADDE-9065DA66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F837A-AE72-43DA-B1FB-C1783C00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54520-AF20-46FA-8317-4831AB05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0533E-70F9-417B-8D4D-92565BF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1148C-CB98-4502-8F04-69DDD04B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54149-73B1-4023-83EB-8A6366C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79CCB-8A6C-451B-93E1-A744ED63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F29B8-9EDE-487C-83BD-3D879EEA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F569B-9947-4214-8E93-012AB6EA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270-F71E-443C-A326-A7BF4F07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E4CB5-6FF3-4EC8-8D17-6AE895EF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04A45-97E3-454C-96CE-EF8FFA50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1216D-F50F-4C8E-90A5-ACF773D4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2A7A0-01E3-4915-8AE8-33E7BFBC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58586-CFC5-4F11-BC56-80DFC946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2B803-D822-4101-A477-80F9DBE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2F500-3A2C-4BFB-9E1A-E96B97B4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85914-0334-4F03-A27E-DC5A1658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EF2D1-12D2-4906-8A0D-A25C07D6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640CB-3D6B-4C67-8150-9970755B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30F-7183-4E76-B4A4-F77BE826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A5204-8973-4163-A272-16552906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6A0AC-FA39-4C9B-B5CF-2FFBA388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0365B-5DB6-4B39-8ABB-68887DFE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1D40C-8015-4EA2-A18E-1C773FD6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D3A3A-D4CD-445D-B7B3-F89913BD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8CCF0-4427-434D-BDB8-1315CD5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03B62-C55B-4FD9-9EC3-A1024972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F8496-8D2C-445E-B78A-1F2F462F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5CCB0-9ABC-424B-8665-B5515AA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F68DE-A0F7-44D0-8676-EAA58B70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60FFC-7C3F-4C7A-A696-33FBA865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EB4E7-42FA-468B-A129-7B2E1A36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C8C2C-45C7-4D8C-A1D0-AACB00CF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EA8-C7FA-48CB-BF61-DB18425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3EF3-93D9-410C-AA2B-9C86C6BA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DE3C-9853-4EE2-BE2F-96B9B198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62D2-505C-4328-8A54-35790D82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5B8-C613-466D-A205-D67187F9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8D80-C06F-4AC1-8024-F04A0346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5C0-B2C0-443E-A6BD-4CA65ED2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8C48-EED7-41E3-9087-9DDA3665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68EB-7865-489F-A533-F8FA712D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3122-ED6F-4463-903A-D13C5322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EADB-FFDD-449F-A17D-F147F2B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10FD-0413-4A54-A590-EA6165F1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0FD0-80B8-402E-9F76-C6F92692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8841-1E79-4D26-905E-39120C73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7BF4-CBE0-416E-8418-23305DED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41D8-753B-41AA-8EE7-703488BA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C768-1FAE-4D49-BEB7-E22623B2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E44-0E2E-49B7-92D1-A9153742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1494-B667-452A-99BA-F0CF61E8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3E68-7FD5-4767-A7C9-6FD80F27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104C0-EA76-4AE5-AF33-2CE925D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A8C2-EBD7-4660-8E61-A727EC6F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69A5-9C06-457F-8DE5-C967FEEA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E596-102B-455F-970B-2311C1BA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1E9E-5EE9-43A2-A149-B9B29555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4198-E503-49DD-A5D0-DF53BF32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E4C9-C49C-44E0-A0A2-6D821D14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3D5CE-3AB5-42A5-B520-364BB3A3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509-4F7F-4463-A2E4-8A37EB7E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5019-498C-43E5-8BBA-79A3D28E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9864-CA22-441F-81CA-7A2121D6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8BC7-7446-4870-9989-0CBEFE5A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ACB2B-58AE-4552-8359-6E61910B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9A6D-B455-474E-9CA0-709A51DF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BF628-B597-4EE8-A15E-F1C3ABF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CAD6-9450-4FDD-A68D-E40584E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441FC-2D31-4EAE-88C2-2F67166B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8BE42-7DDF-41D1-A7DB-79AFBCE3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0F293-5C89-46E8-9C8C-FE8B6452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927-3423-488A-948F-879C81A4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A48F1-432B-4BC8-AC10-E509B11B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1121E-EAD6-427E-B0A2-25437B2F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6B65A-EB16-4C57-943E-5075BB46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007C-4EA0-4669-89C2-A88963D2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AE38-CAFF-40E2-923B-757ADA4C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39C6B-ACBE-4D15-B08D-0D68A7C8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ECC2E-00C7-49F8-9F43-FF30F87D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CB12A-D1CA-46E8-828A-1AB08C7D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A0A9-76AB-4EFB-A022-8AE37DB2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4E10-E9B6-44CD-8B38-4EAA9648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B01-59F2-40D5-8D4C-798318E1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727BB-9689-43AF-8012-A93FB7DF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71538-B3A4-49F1-87DA-130159B3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76889-2308-4C3E-A444-465FA728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03D48-004D-4199-8562-1ACD121B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7139E-5A73-4C6E-AE6E-8C02D735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03DEF-956F-4817-AB92-1FDE3A2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7A60-1BAD-4507-BA79-7A3908A3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1AC1B-0B0A-48BD-9149-C1366158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3AFF-C1C1-4851-87F5-B6C6021A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26F3-CF63-4482-B12F-B1ADC0F0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39F-AB2C-4A06-92AA-FC8A4C15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B089-6127-45B1-AAC1-EB3C228F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BB3A-C404-4230-8477-0DCC4FB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84045-56BF-45A9-98EC-027360CE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4ABE7-AC40-4BC3-8949-94731B1E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DDF8A-89E5-48CE-82C7-C8D7D242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1EAB9-E37A-4995-8F69-D5C24E55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A71C4-BAC4-4E5E-9821-1DBF5CB1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24DF-27AD-4104-A5C1-23A3BCBF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CA1DE-5D39-4DBB-AA9D-E4D2FE47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16964-D468-4CAB-A7ED-47376C48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FF3-5074-43FA-8613-010EC37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63A11-64E8-4587-AB8C-41C11CF0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0CD75-81F7-4475-A998-B48EA15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4ABEB-189A-4BA9-9772-BB9A1008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86F9E-B911-4946-A712-1479D2AB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22AB-0DD3-405F-A7BF-1CC03643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87CE-F95D-471E-A2A8-75426EE3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0973-1696-49ED-A754-941A22DB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A9E00-F9DC-4997-8798-D939EE01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82D3C-A1EA-4B1E-AC85-B52A8C4A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18861-A2B5-46E3-B48E-4C7482AB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DF5-35AE-4A35-B232-387F860CE04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5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5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EEA2-150E-4B95-BBA3-D4C771735D9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0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59A-BDC9-4C6F-AAEF-3C7B8409AC5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7683-C7EC-4EEC-88E9-36414F6BA55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A733-32CB-44E2-9243-0DF3D12D956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D25F-937A-433E-BC9D-6BF82B8CEFE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960-72C0-4F7F-82E4-1215D69248E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B173-EF65-4562-8672-4206E03BB3C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F1E7-00CB-4B63-A50E-124FE6A8804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0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FA1F-7F5A-409E-893E-5B422D3031F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3"/>
          <p:cNvSpPr/>
          <p:nvPr/>
        </p:nvSpPr>
        <p:spPr>
          <a:xfrm>
            <a:off x="1857240" y="1500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Картинка улыбки</a:t>
            </a: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2" name="Picture 26" descr="http://t0.gstatic.com/images?q=tbn:ANd9GcT-Sc4yLL8sgxUnMdITTcHqScpo3cR7uqZilUCgn8LBn4WDqols"/>
          <p:cNvPicPr/>
          <p:nvPr/>
        </p:nvPicPr>
        <p:blipFill>
          <a:blip r:embed="rId1"/>
          <a:stretch/>
        </p:blipFill>
        <p:spPr>
          <a:xfrm>
            <a:off x="928800" y="0"/>
            <a:ext cx="6357960" cy="64292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0"/>
          <p:cNvSpPr/>
          <p:nvPr/>
        </p:nvSpPr>
        <p:spPr>
          <a:xfrm>
            <a:off x="7572240" y="1571760"/>
            <a:ext cx="1000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А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С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Т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Р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О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И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WordArt 5"/>
          <p:cNvSpPr txBox="1"/>
          <p:nvPr/>
        </p:nvSpPr>
        <p:spPr>
          <a:xfrm>
            <a:off x="2195640" y="907920"/>
            <a:ext cx="4752720" cy="4011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1619280" y="1628640"/>
            <a:ext cx="6265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Ребята, я надеюсь,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то вы будете терпимее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тноситься друг к другу.</a:t>
            </a:r>
            <a:r>
              <a:rPr b="0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6" name="WordArt 7"/>
          <p:cNvSpPr txBox="1"/>
          <p:nvPr/>
        </p:nvSpPr>
        <p:spPr>
          <a:xfrm>
            <a:off x="1403280" y="4643280"/>
            <a:ext cx="66247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толерантны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1"/>
          <p:cNvSpPr/>
          <p:nvPr/>
        </p:nvSpPr>
        <p:spPr>
          <a:xfrm>
            <a:off x="1000080" y="20718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387026"/>
                </a:solidFill>
                <a:latin typeface="Arial Black"/>
                <a:ea typeface="Times New Roman"/>
              </a:rPr>
              <a:t>Л</a:t>
            </a:r>
            <a:r>
              <a:rPr b="1" lang="ru-RU" sz="5400" spc="-1" strike="noStrike">
                <a:solidFill>
                  <a:srgbClr val="990099"/>
                </a:solidFill>
                <a:latin typeface="Arial Black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0c9b74"/>
                </a:solidFill>
                <a:latin typeface="Arial Black"/>
                <a:ea typeface="Times New Roman"/>
              </a:rPr>
              <a:t>Р</a:t>
            </a:r>
            <a:r>
              <a:rPr b="1" lang="ru-RU" sz="5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66330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ff0066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cc0099"/>
                </a:solidFill>
                <a:latin typeface="Arial Black"/>
                <a:ea typeface="Times New Roman"/>
              </a:rPr>
              <a:t>С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a50021"/>
                </a:solidFill>
                <a:latin typeface="Arial Black"/>
                <a:ea typeface="Times New Roman"/>
              </a:rPr>
              <a:t>Ь</a:t>
            </a:r>
            <a:endParaRPr b="0" i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-360" y="285480"/>
            <a:ext cx="5000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Толерантность –                   это способность человека терпимо относиться к тем, кто думает и поступает не так, как т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6" name="Picture 24" descr="http://t0.gstatic.com/images?q=tbn:ANd9GcQ6dA9EcvFLTVHYUrpe4m7jNjckzZXcOLkhEWz2UcLO_BdW4gsbVA"/>
          <p:cNvPicPr/>
          <p:nvPr/>
        </p:nvPicPr>
        <p:blipFill>
          <a:blip r:embed="rId1"/>
          <a:stretch/>
        </p:blipFill>
        <p:spPr>
          <a:xfrm>
            <a:off x="5072040" y="928800"/>
            <a:ext cx="3714840" cy="4705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4" descr=""/>
          <p:cNvPicPr/>
          <p:nvPr/>
        </p:nvPicPr>
        <p:blipFill>
          <a:blip r:embed="rId1"/>
          <a:stretch/>
        </p:blipFill>
        <p:spPr>
          <a:xfrm>
            <a:off x="4498920" y="274680"/>
            <a:ext cx="4187880" cy="58881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toler2"/>
          <p:cNvPicPr/>
          <p:nvPr/>
        </p:nvPicPr>
        <p:blipFill>
          <a:blip r:embed="rId2"/>
          <a:stretch/>
        </p:blipFill>
        <p:spPr>
          <a:xfrm>
            <a:off x="468360" y="0"/>
            <a:ext cx="824688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Arial Black"/>
              </a:rPr>
              <a:t>Толерантность – это уважение к  другому!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0" name="Picture 22" descr="http://t2.gstatic.com/images?q=tbn:ANd9GcTSYM507VTk8r6xNLEM1oWS0oNSTSqtd9Jwyju23ofpj5q8U5SaoQ"/>
          <p:cNvPicPr/>
          <p:nvPr/>
        </p:nvPicPr>
        <p:blipFill>
          <a:blip r:embed="rId1"/>
          <a:stretch/>
        </p:blipFill>
        <p:spPr>
          <a:xfrm>
            <a:off x="1857240" y="2428920"/>
            <a:ext cx="4929480" cy="4000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WordArt 5"/>
          <p:cNvSpPr txBox="1"/>
          <p:nvPr/>
        </p:nvSpPr>
        <p:spPr>
          <a:xfrm>
            <a:off x="428760" y="928800"/>
            <a:ext cx="8501040" cy="35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88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1643040" y="1285920"/>
            <a:ext cx="664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Arial Black"/>
                <a:ea typeface="Arial"/>
              </a:rPr>
              <a:t>ТОЛЕРАНТНОСТЬ</a:t>
            </a:r>
            <a:r>
              <a:rPr b="0" i="1" lang="ru-RU" sz="2400" spc="-1" strike="noStrike">
                <a:solidFill>
                  <a:srgbClr val="0000cc"/>
                </a:solidFill>
                <a:latin typeface="Arial Black"/>
                <a:ea typeface="Arial"/>
              </a:rPr>
              <a:t> – УВАЖЕНИЕ, ПРИНЯТИЕ ЛЮДЕЙ, КАКИМИ БЫ ОТЛИЧНЫМИ ОТ НАС ОНИ НЕ БЫЛИ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 Black"/>
                <a:ea typeface="Arial"/>
              </a:rPr>
              <a:t>Люди разные, это нужно понимать и принимать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  <a:ea typeface="Arial"/>
              </a:rPr>
              <a:t>Человек имеет право быть ДРУГИМ!!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8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Заголовок 1"/>
          <p:cNvSpPr/>
          <p:nvPr/>
        </p:nvSpPr>
        <p:spPr>
          <a:xfrm>
            <a:off x="468360" y="148428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Verdana"/>
              </a:rPr>
              <a:t>ТОЛЕРАНТНОСТЬ –</a:t>
            </a:r>
            <a:r>
              <a:rPr b="1" lang="ru-RU" sz="4500" spc="-1" strike="noStrike">
                <a:solidFill>
                  <a:srgbClr val="0000cc"/>
                </a:solidFill>
                <a:latin typeface="Arial Black"/>
              </a:rPr>
              <a:t> </a:t>
            </a:r>
            <a:br>
              <a:rPr sz="4500"/>
            </a:br>
            <a:r>
              <a:rPr b="1" i="1" lang="ru-RU" sz="4500" spc="-1" strike="noStrike">
                <a:solidFill>
                  <a:srgbClr val="0000cc"/>
                </a:solidFill>
                <a:latin typeface="Arial"/>
              </a:rPr>
              <a:t>это уважение, принятие и понимание многообразия мира.</a:t>
            </a:r>
            <a:endParaRPr b="0" i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2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WordArt 5"/>
          <p:cNvSpPr txBox="1"/>
          <p:nvPr/>
        </p:nvSpPr>
        <p:spPr>
          <a:xfrm>
            <a:off x="2050920" y="333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4" name="Прямоугольник 5"/>
          <p:cNvSpPr/>
          <p:nvPr/>
        </p:nvSpPr>
        <p:spPr>
          <a:xfrm>
            <a:off x="1785960" y="2571840"/>
            <a:ext cx="6000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 Black"/>
                <a:ea typeface="Arial"/>
              </a:rPr>
              <a:t>Ребята, вы поняли, что такое толерантность?</a:t>
            </a:r>
            <a:r>
              <a:rPr b="1" i="1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8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WordArt 5"/>
          <p:cNvSpPr txBox="1"/>
          <p:nvPr/>
        </p:nvSpPr>
        <p:spPr>
          <a:xfrm>
            <a:off x="2050920" y="549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1785960" y="1197000"/>
            <a:ext cx="60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Уваже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Доброт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Сопережив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Дружб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Поним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Поддержк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Терпимость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User</cp:lastModifiedBy>
  <dcterms:modified xsi:type="dcterms:W3CDTF">2015-11-30T11:02:29Z</dcterms:modified>
  <cp:revision>122</cp:revision>
  <dc:subject/>
  <dc:title>Беседа о толерантности  для учащихся 1-2 класса.</dc:title>
</cp:coreProperties>
</file>