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FDF-C2F4-4802-BC7A-1FAF85B4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B53-AE80-46DD-8BAE-85068D3B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C61-33B3-44FC-BD42-BD2B7A41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F00-F04F-45A7-A433-37E754F8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A37C-7D8F-48D1-BEBE-B2E0A79B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645F-42BE-41E0-B2E7-4CCC9111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36A3-578D-4FB0-8565-C1DC8D43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B5B3-086D-4B09-91B5-40208B88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E815-16D3-41C1-8CEA-17A7938B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877B-0EB6-4417-8BBB-63F20010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DA5E-2C1A-4FA9-AC45-FAF2972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7FA-F039-4B74-BB22-9AF6418B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AD12-B506-4871-AE41-30F5CE8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4ED1-A000-4A33-8195-3EA9183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9531-FC50-4EF1-9956-355738FF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6B04-04A1-4EDC-9CDF-99E6AB95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40C6-CFEE-4E7B-AAA4-8A4BC120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C817-B815-4467-83EF-9DF92389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909E-812D-4B14-9B18-FDDAC882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1E14-EA64-42F4-8EB1-053573EE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C247-C1E5-4495-953A-0088A0C7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7319-0F16-4AF8-A7EA-296059C6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DE0-CAB6-4B25-96EB-EBC9BF66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C0A22-FB04-4B4A-950C-E6DB0C66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E4CBA-8580-4ABB-863E-5A7536B2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5636-E8C8-4D12-97FE-E7A3CCAB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B442-A0D8-4210-9FFF-5B964B6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4533-7978-42EB-BF30-B62726A0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A762-CDF5-4292-8CC3-43C2597A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3E47-3A9E-4910-B87E-E8078E0C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29C11-CC45-4A1B-9370-E346CA49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1D4B8-D141-4FEA-9882-B1C1C038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9C4B3-1570-4542-B8A1-6007CA51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D4D-4692-4E4A-8E2B-4C595E9A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419E1-F410-4ABC-9D77-B16EF010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E41B-9809-4C36-B77A-10DFE195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45C67-5D5A-4962-AC36-5647235B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593D3-B7FB-44BC-A91F-526725D7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A33A-7DCA-4E72-A57A-5EDADAAD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6A812-03B3-44C8-91CD-3882AF21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67C6-52B9-4D5D-94AC-A8E13EE4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C224-4ED1-45D3-8196-23777BAC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3533-B754-4863-BD0A-C859A0DC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E993-0F50-44C4-B804-8C440185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121-9BC1-4672-808B-3BD95859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3438A-EDEB-4FC5-B046-85A5B086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72075-B03E-48CB-A7C0-812A6DB0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FB88-6BE5-4AD5-A08D-1C701B1C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AFF93-108E-4A93-A911-2BB3A360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54A0D-5FBA-4D31-B05F-6B6992C4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6F709-8433-45F0-B175-31237BD9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B25F7-E923-4C0A-AC4B-15622C85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8F659-F34A-454C-ACCC-22C07B1E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36D73-C0B3-4B57-A33B-38D4053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F6510-75BC-44EC-A73C-D32CDE39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162-CB96-45FA-9A7B-89EF556A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2CB24-F4A7-409B-AC7F-13A22A8E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2075E-2DCB-4579-9536-3E52D55E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1DE3-9BBB-4F82-B36F-5CC85A3A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BF63-48AC-46B2-B3EA-8CC63D40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49B7-678C-4E20-87D9-B8E07A1B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4445B-431A-4B48-928F-27C1F60C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11561-B7E3-4952-979C-8E8AF134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15B88-6907-42A8-8A7A-1E9E02F6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DB181-B2D0-4FAD-ABF0-B044D8A4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F18C9-9886-4DD2-887A-1F4B0BC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606-B268-47E0-9563-6C0E70E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3BFD0-26CC-4F4C-A645-63A9FC7A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12EAE-54A3-47DA-A4AD-CAD83643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62658-7B2C-4FD0-8059-470BE251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9A098-C392-44CD-BD60-AC2DE3EE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78E30-56AD-4A98-A2DF-D8BBB548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8C1DE-53B8-4425-BF4D-C32BAC1A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8B25F-4CD7-45C6-A2CE-3A3B15F0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A849E-686C-47ED-9A7E-B26A39D4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3DB9B-8E04-41B4-9D42-1E7C023F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44031-D9B7-45EE-9AAF-2B0765C9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720-F058-49F2-8DDB-D8662AA2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E1D33-602C-4732-9EE2-CC605AC1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5C9D3-134C-46A0-8F68-17BB7002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13902-5364-49A0-993B-1C8A1869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8E40F-371B-40CF-B88E-5BFA9C0F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1DF3-A8A9-4EC2-86B4-1474DA0D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5A0-D1F2-47D0-A14F-FF94B05C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22C-8D73-4F65-AF3B-0A6AE92568F1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2F2C-C6D7-41A9-AD7E-71B71177DB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D4A6-B31C-4FBA-A93E-D6DB243E7C38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C83D-26B0-461A-BCEE-7D60F195931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549B-9BAE-4552-9C34-CD90E2B5786F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A4D3-E687-461D-B633-10D5D3FB833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F2B1-B00D-45C3-BCB6-5CDC164F78AA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4393-434A-4721-B8FE-00793691157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2806-5D3E-4425-BB6E-F22AD11B0884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FE7F-DEA8-40EF-956C-DCD80B415DE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84A6-50F8-4CB5-A67B-EE915305FC22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C284-20E1-4DFA-9E2C-C0401AEE7FA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16E5-C1EC-4F2C-A3D3-2835E3E0104B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1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AE89-DC88-452B-8A38-7D41DA8CB8E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Users\Ольга\Desktop\i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3"/>
          <p:cNvSpPr/>
          <p:nvPr/>
        </p:nvSpPr>
        <p:spPr>
          <a:xfrm>
            <a:off x="114300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Чистые руки – залог здоровь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"/>
          <p:cNvSpPr/>
          <p:nvPr/>
        </p:nvSpPr>
        <p:spPr>
          <a:xfrm>
            <a:off x="914400" y="1522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Tahoma"/>
              </a:rPr>
              <a:t>Чистые руки – залог здоровь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8" name="Рисунок 10" descr="F:\DCIM\100CANON\IMG_1318.JPG"/>
          <p:cNvPicPr/>
          <p:nvPr/>
        </p:nvPicPr>
        <p:blipFill>
          <a:blip r:embed="rId1"/>
          <a:stretch/>
        </p:blipFill>
        <p:spPr>
          <a:xfrm>
            <a:off x="4589640" y="31924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Ольга\Desktop\detskie-kartinki-dlya-prezintatsiy-13344-large.jpg"/>
          <p:cNvPicPr/>
          <p:nvPr/>
        </p:nvPicPr>
        <p:blipFill>
          <a:blip r:embed="rId2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" descr=""/>
          <p:cNvPicPr/>
          <p:nvPr/>
        </p:nvPicPr>
        <p:blipFill>
          <a:blip r:embed="rId3"/>
          <a:stretch/>
        </p:blipFill>
        <p:spPr>
          <a:xfrm>
            <a:off x="4680" y="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3" name="Рисунок 1" descr=""/>
          <p:cNvPicPr/>
          <p:nvPr/>
        </p:nvPicPr>
        <p:blipFill>
          <a:blip r:embed="rId2"/>
          <a:stretch/>
        </p:blipFill>
        <p:spPr>
          <a:xfrm>
            <a:off x="1371600" y="5868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2"/>
          <p:cNvSpPr/>
          <p:nvPr/>
        </p:nvSpPr>
        <p:spPr>
          <a:xfrm>
            <a:off x="609480" y="304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Прямоугольник 1"/>
          <p:cNvSpPr/>
          <p:nvPr/>
        </p:nvSpPr>
        <p:spPr>
          <a:xfrm>
            <a:off x="609480" y="1066680"/>
            <a:ext cx="8305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  <a:ea typeface="Calibri"/>
              </a:rPr>
              <a:t>15 октября – Всемирный день чистых рук. </a:t>
            </a:r>
            <a:r>
              <a:rPr b="0" lang="ru-RU" sz="4000" spc="-1" strike="noStrike">
                <a:solidFill>
                  <a:srgbClr val="444444"/>
                </a:solidFill>
                <a:latin typeface="Candara"/>
                <a:ea typeface="Calibri"/>
              </a:rPr>
              <a:t> Этот необычный праздник был придуман десять лет назад, чтобы предупредить людей о неприятных и даже опасных последствиях несоблюдения простых правил гигиен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2"/>
          <p:cNvSpPr/>
          <p:nvPr/>
        </p:nvSpPr>
        <p:spPr>
          <a:xfrm>
            <a:off x="609480" y="304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Прямоугольник 1"/>
          <p:cNvSpPr/>
          <p:nvPr/>
        </p:nvSpPr>
        <p:spPr>
          <a:xfrm>
            <a:off x="609480" y="106668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Знаете ли вы, что: на наших руках от кончиков пальцев до локтей может находиться от 2 млн до 140 млн бактерий; на руках бактерии и микробы могут оставаться живыми до 3 часов; мокрые руки передают в 1000 раз больше бактерий, чем сухие; под часами или браслетом на руке прячутся миллионы 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52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имптомы болезней «грязных рук» боль в животе; частая тошнота, рвота; воспалительные заболевания желудочно-кишечного тракта; утомляемость, раздражительность, тревожный сон; аллергические состояния; резкое снижение массы тел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огда следует мыть руки: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работой с продуктами питания (особенно тщательно перед разделыванием мяса и после него)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тем, как приниматься за еду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посещения любых общественных мест: магазинов, детской площадки, автобусов и другого транспорта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прикосновения к деньгам – на них скапливается максимальное количество бактери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физического контакта с животными или их отходами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того, как убрали квартиру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если на руках есть любое очевидное загрязнение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до и после любой медицинской процедуры: обработки ран, перевязке, массажа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тем как ставите  линзы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возвращения домой с любой прогулки, даже если не посещали общественные места, поскольку в любом случае, прикасались к кнопке лифта, перилам или ручке входной двери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контакта с больными людьми (в особенности, болеющими инфекциями)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если вы чихаете или кашляете, прикрывая рот рукой. Бактерии осядут на ладони, их нужно обязательно смыть, чтобы не заражать других людей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2" name="Рисунок 3" descr="F:\DCIM\100CANON\IMG_1308.JPG"/>
          <p:cNvPicPr/>
          <p:nvPr/>
        </p:nvPicPr>
        <p:blipFill>
          <a:blip r:embed="rId2"/>
          <a:stretch/>
        </p:blipFill>
        <p:spPr>
          <a:xfrm>
            <a:off x="485640" y="3352680"/>
            <a:ext cx="4086360" cy="304812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1"/>
          <p:cNvSpPr/>
          <p:nvPr/>
        </p:nvSpPr>
        <p:spPr>
          <a:xfrm>
            <a:off x="485640" y="228600"/>
            <a:ext cx="82090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Calibri"/>
              </a:rPr>
              <a:t>1 ФБУЗ «Центр гигиены и эпидемиологии в Тюменской области» посетили корреспонденты тюменского интернет издания «72.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Calibri"/>
              </a:rPr>
              <a:t>» с целью – проверить чистоту рук и предметов ежедневного пользования. После небольшого инструктажа посетителей сотрудники лаборатории отобрали смывы со всех поверхностей: с мобильного телефона, с грязных и чистых рук, с фотоаппарата, с компьютерной клавиатуры, с бумажных и металлических денег. Смывы с поверхностей помещены в пробирки со стерильными питательными средами для ускорения роста микроорганизмов, если таковые обнаружатся в исследуемом материал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Рисунок 5" descr="F:\DCIM\100CANON\IMG_1318.JPG"/>
          <p:cNvPicPr/>
          <p:nvPr/>
        </p:nvPicPr>
        <p:blipFill>
          <a:blip r:embed="rId3"/>
          <a:stretch/>
        </p:blipFill>
        <p:spPr>
          <a:xfrm>
            <a:off x="4579920" y="335268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7" name="Рисунок 3" descr="F:\DCIM\100CANON\IMG_1308.JPG"/>
          <p:cNvPicPr/>
          <p:nvPr/>
        </p:nvPicPr>
        <p:blipFill>
          <a:blip r:embed="rId2"/>
          <a:stretch/>
        </p:blipFill>
        <p:spPr>
          <a:xfrm>
            <a:off x="447840" y="3184560"/>
            <a:ext cx="4086000" cy="30481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F:\DCIM\100CANON\IMG_1318.JPG"/>
          <p:cNvPicPr/>
          <p:nvPr/>
        </p:nvPicPr>
        <p:blipFill>
          <a:blip r:embed="rId3"/>
          <a:stretch/>
        </p:blipFill>
        <p:spPr>
          <a:xfrm>
            <a:off x="4589640" y="31924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6" descr="F:\DCIM\100CANON\IMG_1326.JPG"/>
          <p:cNvPicPr/>
          <p:nvPr/>
        </p:nvPicPr>
        <p:blipFill>
          <a:blip r:embed="rId4"/>
          <a:stretch/>
        </p:blipFill>
        <p:spPr>
          <a:xfrm>
            <a:off x="485640" y="152280"/>
            <a:ext cx="4010040" cy="29289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7" descr="F:\DCIM\100CANON\IMG_1300.JPG"/>
          <p:cNvPicPr/>
          <p:nvPr/>
        </p:nvPicPr>
        <p:blipFill>
          <a:blip r:embed="rId5"/>
          <a:stretch/>
        </p:blipFill>
        <p:spPr>
          <a:xfrm>
            <a:off x="4579920" y="152280"/>
            <a:ext cx="412452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Итак, что же у нас получилось? Как оказалось, самыми грязными, судя по результатам нашего эксперимента, оказались руки после поездки в автобусе.  Кроме того, специалисты обнаружили на ладонях стафилококк гемолитический, который является опасной, но довольно распространенной бактерией. Сделав смыв с фотоаппарата, лаборанты увидели золотистого стафилококка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5" name="Рисунок 1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951360" cy="381024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2" descr=""/>
          <p:cNvPicPr/>
          <p:nvPr/>
        </p:nvPicPr>
        <p:blipFill>
          <a:blip r:embed="rId3"/>
          <a:stretch/>
        </p:blipFill>
        <p:spPr>
          <a:xfrm>
            <a:off x="4408560" y="1295280"/>
            <a:ext cx="42782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w072003004</dc:creator>
  <dc:description/>
  <dc:language>en-US</dc:language>
  <cp:lastModifiedBy>user</cp:lastModifiedBy>
  <dcterms:modified xsi:type="dcterms:W3CDTF">2019-10-07T11:28:00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