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364D2-7976-45D0-8A55-A124F39D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9123C-8857-488B-B887-272332E1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D7E19-C10F-4FE8-B575-48C332FB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CCCA-220C-41BB-AEC3-D6EB659F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FC32-F665-499F-88BD-64D86B0C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1F8D-6A64-4EB2-88B1-9534A2E8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76D8-3EA2-4D10-97BB-D15C8B3E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D2C1-E012-4B42-86F8-75A9C8E5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0822-01BD-4DD9-925D-D327AA26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12E5-1B37-4C5D-97B5-A1972B32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F7ED-9686-4E99-A154-3B99EA7A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8919-1611-4ED5-9CE7-729D14AA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FF53-86BE-47AA-B09A-A3A0919C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F357-BEA7-4014-8B4D-8B8DECEF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5D2D-7090-44E4-B8EF-54414DAB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5818-E910-4DE2-8042-E5A5F753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D600-C72D-4174-8051-D442A791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7A31-7C9F-4090-9E9A-475EA8AA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BE424-C9DC-46FA-B6DA-2FC3D299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9B7B-1838-44AB-9DBD-CC5E48F1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8CF5D-4C7A-496C-AEFF-11C706FF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4A8F1-D483-434F-94FB-CE8BF461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5577-D7B4-49EA-8D1C-850945B8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85000-0594-439F-8024-A1C5E097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16E8-1547-4A23-838C-279F0E168B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prstGeom prst="pie">
              <a:avLst/>
            </a:pr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8960"/>
            <a:ext cx="7314840" cy="4571640"/>
            <a:chOff x="914760" y="1218960"/>
            <a:chExt cx="7314840" cy="457164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1760" y="1218960"/>
              <a:ext cx="865800" cy="4551120"/>
              <a:chOff x="1121760" y="1218960"/>
              <a:chExt cx="865800" cy="455112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1760" y="122796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2200" y="1218960"/>
                <a:ext cx="0" cy="45241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98840" y="1243080"/>
                <a:ext cx="0" cy="45270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87560" y="1243080"/>
                <a:ext cx="0" cy="45270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0640"/>
              <a:ext cx="7314840" cy="4095000"/>
              <a:chOff x="914760" y="1430640"/>
              <a:chExt cx="7314840" cy="409500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0640"/>
                <a:ext cx="7300440" cy="821520"/>
                <a:chOff x="914760" y="1430640"/>
                <a:chExt cx="7300440" cy="82152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0640"/>
                  <a:ext cx="7229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86400" y="170676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3200" y="197820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160" y="225216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29520" y="2506680"/>
                <a:ext cx="7300080" cy="828000"/>
                <a:chOff x="929520" y="2506680"/>
                <a:chExt cx="7300080" cy="82800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29520" y="2506680"/>
                  <a:ext cx="72284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0800" y="27892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1200" y="30574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3560" y="33346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22320"/>
                <a:ext cx="7300440" cy="819000"/>
                <a:chOff x="914760" y="3622320"/>
                <a:chExt cx="7300440" cy="81900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22320"/>
                  <a:ext cx="7229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86400" y="389484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3200" y="41662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160" y="444132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29520" y="4703040"/>
                <a:ext cx="7300080" cy="822600"/>
                <a:chOff x="929520" y="4703040"/>
                <a:chExt cx="7300080" cy="82260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29520" y="4703040"/>
                  <a:ext cx="72284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0800" y="498024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1200" y="52516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3560" y="552564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2840" y="1243080"/>
              <a:ext cx="865800" cy="4547520"/>
              <a:chOff x="2292840" y="1243080"/>
              <a:chExt cx="86580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2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32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699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586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0480" y="1243080"/>
              <a:ext cx="865800" cy="4547520"/>
              <a:chOff x="3480480" y="1243080"/>
              <a:chExt cx="86580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04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591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7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62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8120" y="1243080"/>
              <a:ext cx="865800" cy="4547520"/>
              <a:chOff x="4668120" y="1243080"/>
              <a:chExt cx="86580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81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67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2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39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10400" y="1243080"/>
              <a:ext cx="860040" cy="4547520"/>
              <a:chOff x="5810400" y="1243080"/>
              <a:chExt cx="86004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104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3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817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704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7800" y="1243080"/>
              <a:ext cx="865800" cy="4547520"/>
              <a:chOff x="6967800" y="1243080"/>
              <a:chExt cx="86580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78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64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42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336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084E-CFBF-406C-855D-B385AEF9B7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на тему «Сложение и вычитание в столбик в пределах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подготовлена учителем начальных классов Авериной Натальей Кирилл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в столб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 пределах 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жение и вычита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 перехода через деся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3880" y="1397160"/>
          <a:ext cx="6096240" cy="462276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Box 6"/>
          <p:cNvSpPr/>
          <p:nvPr/>
        </p:nvSpPr>
        <p:spPr>
          <a:xfrm>
            <a:off x="2590920" y="2438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908360" y="26668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2597760" y="30481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9"/>
          <p:cNvSpPr/>
          <p:nvPr/>
        </p:nvSpPr>
        <p:spPr>
          <a:xfrm>
            <a:off x="2286000" y="3733920"/>
            <a:ext cx="144792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5645520" y="24382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5032080" y="25146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5638680" y="2971800"/>
            <a:ext cx="8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5"/>
          <p:cNvSpPr/>
          <p:nvPr/>
        </p:nvSpPr>
        <p:spPr>
          <a:xfrm>
            <a:off x="5334120" y="3657600"/>
            <a:ext cx="1447560" cy="7632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2971800" y="36576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2590920" y="3657600"/>
            <a:ext cx="4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6023880" y="36576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5638680" y="3657600"/>
            <a:ext cx="5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жение и вычита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переходом через деся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3880" y="1600200"/>
          <a:ext cx="6172200" cy="4724280"/>
        </p:xfrm>
        <a:graphic>
          <a:graphicData uri="http://schemas.openxmlformats.org/drawingml/2006/table">
            <a:tbl>
              <a:tblPr/>
              <a:tblGrid>
                <a:gridCol w="771480"/>
                <a:gridCol w="771840"/>
                <a:gridCol w="771480"/>
                <a:gridCol w="771480"/>
                <a:gridCol w="771480"/>
                <a:gridCol w="771480"/>
                <a:gridCol w="771480"/>
                <a:gridCol w="77148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2673720" y="2133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1908360" y="2362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2666880" y="2666880"/>
            <a:ext cx="8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7"/>
          <p:cNvSpPr/>
          <p:nvPr/>
        </p:nvSpPr>
        <p:spPr>
          <a:xfrm>
            <a:off x="2286000" y="3352680"/>
            <a:ext cx="152388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5721840" y="2133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4956480" y="2362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5721840" y="2666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11"/>
          <p:cNvSpPr/>
          <p:nvPr/>
        </p:nvSpPr>
        <p:spPr>
          <a:xfrm>
            <a:off x="5410080" y="3352680"/>
            <a:ext cx="144792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2743200" y="1828800"/>
            <a:ext cx="4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587016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3048120" y="3276720"/>
            <a:ext cx="4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2666880" y="3276720"/>
            <a:ext cx="6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6095880" y="3276720"/>
            <a:ext cx="5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5715000" y="3276720"/>
            <a:ext cx="5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8"/>
          <p:cNvSpPr/>
          <p:nvPr/>
        </p:nvSpPr>
        <p:spPr>
          <a:xfrm>
            <a:off x="4191120" y="4495680"/>
            <a:ext cx="8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9"/>
          <p:cNvSpPr/>
          <p:nvPr/>
        </p:nvSpPr>
        <p:spPr>
          <a:xfrm>
            <a:off x="3508560" y="4495680"/>
            <a:ext cx="45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4191120" y="5029200"/>
            <a:ext cx="8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21"/>
          <p:cNvSpPr/>
          <p:nvPr/>
        </p:nvSpPr>
        <p:spPr>
          <a:xfrm>
            <a:off x="3886200" y="5715000"/>
            <a:ext cx="144792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4"/>
          <p:cNvSpPr/>
          <p:nvPr/>
        </p:nvSpPr>
        <p:spPr>
          <a:xfrm>
            <a:off x="4267080" y="358128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5"/>
          <p:cNvSpPr/>
          <p:nvPr/>
        </p:nvSpPr>
        <p:spPr>
          <a:xfrm flipH="1">
            <a:off x="4571280" y="563868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6"/>
          <p:cNvSpPr/>
          <p:nvPr/>
        </p:nvSpPr>
        <p:spPr>
          <a:xfrm>
            <a:off x="4195080" y="5638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200"/>
                            </p:stCondLst>
                            <p:childTnLst>
                              <p:par>
                                <p:cTn id="2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2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2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итание из круглых чисе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их пол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00200" y="1600200"/>
          <a:ext cx="6095880" cy="48006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Box 4"/>
          <p:cNvSpPr/>
          <p:nvPr/>
        </p:nvSpPr>
        <p:spPr>
          <a:xfrm>
            <a:off x="2666880" y="2133720"/>
            <a:ext cx="94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057400" y="22096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666880" y="274320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7"/>
          <p:cNvSpPr/>
          <p:nvPr/>
        </p:nvSpPr>
        <p:spPr>
          <a:xfrm flipV="1">
            <a:off x="2438280" y="3429000"/>
            <a:ext cx="137160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2743200" y="1143000"/>
            <a:ext cx="54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3052080" y="3352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2670840" y="3352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"/>
          <p:cNvSpPr/>
          <p:nvPr/>
        </p:nvSpPr>
        <p:spPr>
          <a:xfrm>
            <a:off x="5798160" y="2133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2"/>
          <p:cNvSpPr/>
          <p:nvPr/>
        </p:nvSpPr>
        <p:spPr>
          <a:xfrm>
            <a:off x="5029200" y="2362320"/>
            <a:ext cx="54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5798160" y="27432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14"/>
          <p:cNvSpPr/>
          <p:nvPr/>
        </p:nvSpPr>
        <p:spPr>
          <a:xfrm>
            <a:off x="5410080" y="3429000"/>
            <a:ext cx="144792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6176160" y="3352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587016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7"/>
          <p:cNvSpPr/>
          <p:nvPr/>
        </p:nvSpPr>
        <p:spPr>
          <a:xfrm>
            <a:off x="5791320" y="3352680"/>
            <a:ext cx="4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8"/>
          <p:cNvSpPr/>
          <p:nvPr/>
        </p:nvSpPr>
        <p:spPr>
          <a:xfrm flipH="1">
            <a:off x="4038480" y="4495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9"/>
          <p:cNvSpPr/>
          <p:nvPr/>
        </p:nvSpPr>
        <p:spPr>
          <a:xfrm>
            <a:off x="4728240" y="4495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5486400" y="4495680"/>
            <a:ext cx="6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3505320" y="457200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2"/>
          <p:cNvSpPr/>
          <p:nvPr/>
        </p:nvSpPr>
        <p:spPr>
          <a:xfrm>
            <a:off x="5490360" y="5105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3"/>
          <p:cNvSpPr/>
          <p:nvPr/>
        </p:nvSpPr>
        <p:spPr>
          <a:xfrm>
            <a:off x="4724280" y="5105520"/>
            <a:ext cx="5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24"/>
          <p:cNvSpPr/>
          <p:nvPr/>
        </p:nvSpPr>
        <p:spPr>
          <a:xfrm>
            <a:off x="3886200" y="5791320"/>
            <a:ext cx="2286000" cy="759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5"/>
          <p:cNvSpPr/>
          <p:nvPr/>
        </p:nvSpPr>
        <p:spPr>
          <a:xfrm>
            <a:off x="4803480" y="380988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6"/>
          <p:cNvSpPr/>
          <p:nvPr/>
        </p:nvSpPr>
        <p:spPr>
          <a:xfrm>
            <a:off x="4114800" y="3809880"/>
            <a:ext cx="39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7"/>
          <p:cNvSpPr/>
          <p:nvPr/>
        </p:nvSpPr>
        <p:spPr>
          <a:xfrm>
            <a:off x="5490360" y="571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8"/>
          <p:cNvSpPr/>
          <p:nvPr/>
        </p:nvSpPr>
        <p:spPr>
          <a:xfrm>
            <a:off x="4804560" y="571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а вычисления в столбик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Записываем каждую цифру в отдельной кле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числение начинай с самого меньшего разряда – с еди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сле вычисления переходим к следующему разря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6-01-17T08:36:16Z</dcterms:modified>
  <cp:revision>30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