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A22-9E5F-4287-8E19-8E7C0562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A0B4-6998-4C11-BADC-30FC6E1C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678-AFA9-4F38-BDC3-FB656933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642-DFFA-4ED0-910A-AF6E9B64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C8C4-1A21-413B-AB1D-6B2191CF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2ADC-02DF-4E0B-871E-02D07842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0C0A-52A3-4B19-BBAF-8D2D92EC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BAAC-85A7-4A02-AD0C-D7D55B79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8E27-69EE-4760-95B1-E8A0FF84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86CD-DBBE-4773-A81A-B183F2C3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F8D2-57B9-4774-BFFD-DFDA5304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AA67-63B1-46F8-A1C8-875E3B89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78E9-2C1F-45DF-B0F2-6D42E69F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D751-09D4-48B7-8C9F-1223ECB8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2BF3-2A6D-4369-8F01-5920F068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36DB-454F-4E47-8D8F-9B403479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6930-73B7-4075-970D-774F136A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C8B6-4473-4124-8BB0-FDAB57B3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6837-B84E-46AB-BB8A-1EB0A490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8ED-F62D-4886-9E6C-586F9F57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EE2-3D41-46F4-819F-B0FFF5C8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0B9E-54A0-4969-B023-E9CC6B51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534-B8F8-4D93-A8D0-63DA5D0C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D5A-72DB-4169-B756-F3FFE248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0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bdf0f5"/>
                </a:gs>
                <a:gs pos="5000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f0f5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bdf0f5"/>
                </a:gs>
                <a:gs pos="5000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bdf0f5"/>
                </a:gs>
                <a:gs pos="5000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df0f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df0f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662B-AC0E-4C15-9E40-A55DC7F9791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0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bdf0f5"/>
                </a:gs>
                <a:gs pos="5000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f0f5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bdf0f5"/>
                </a:gs>
                <a:gs pos="5000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bdf0f5"/>
                </a:gs>
                <a:gs pos="5000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df0f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df0f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4D57-C059-43B6-B4D4-FF5BB9CF60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Что в имени тебе моё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724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русского языка в 6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 учителя русского языка и литературы Жамбулгановой Галины Павло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мена, появившиеся в 20 ве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волюция, Диктатура, Закон, Октябрь, Октябрина, Май, Майя,  Декабрина, сын – Рево, дочь – Люция (от слова Революция), Спутник, Ракета, Иде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том, Неон, Прото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исслед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13840" y="1000080"/>
            <a:ext cx="8929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ыясни, что означает твое имя, из какого языка оно пришло в русский язык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спроси у родителей, почему они выбрали для тебя именно такое имя (имя понравилось своим звучанием, назвали в честь кого-либо из родственников или известных людей, назвали по святцам в честь какого-то святого, другие причины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собери сведения о людях, которые носят или носили такое же имя, как у тебя, и какие черты их характера тебе нрав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е распространённые имена в школ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1052640"/>
          <a:ext cx="8640720" cy="5676840"/>
        </p:xfrm>
        <a:graphic>
          <a:graphicData uri="http://schemas.openxmlformats.org/drawingml/2006/table">
            <a:tbl>
              <a:tblPr/>
              <a:tblGrid>
                <a:gridCol w="2853000"/>
                <a:gridCol w="1468440"/>
                <a:gridCol w="2846160"/>
                <a:gridCol w="1473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ские и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ские име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ста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е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изав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р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и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л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ии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ате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митр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йсл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моф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же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м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ел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ге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ена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21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ужские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ексей,Александ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дрей,Анатолий,Антон,Валентин,Владими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ислав,Витал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ргий,Данил,Дмитрий,Денис,Егор,Захар, Илья, Иван, Кирилл, Константин, Максим, Михаил, Никита, Николай, Павел, Роман, Сергей, Станислав, Юрий, Хам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84720" y="981000"/>
            <a:ext cx="45352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Женские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на, Ангелина, Алина, Алёна, Айтан, Анжелика, Александра, Анастасия, Валерия, Валентина, Виктория, Вера, Диана, Зоя, Ирина, Инна Кристина Злата, Елена, Дарья, Елизавета, Лидия, Людмила, Любовь, Лилия, Мария, Марина, Наталья, Надежда, Нина, Ольга, Рита, Раиса, Светлана, Тамара, Оксана, Эльвира, Яна, Екатер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мил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милия – наследственное имя семьи. Семейное имя, передаваемое по наслед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ое привычное для нас слово “фамилия” попало в наш язык из латыни и в переводе означает 7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явление фам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милии в современном понимании слова на Руси появились довольно поздно, лишь в 16 веке. Распространение фамилий началось с людей знатного происхождения. Значительная часть городского и сельского населения еще 200 лет назад не имела фамил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мя и фамилия у тебя одно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всегда тебе оно дано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изнь длинна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отт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ы побереги ег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помни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и отца своего и свою мать – так учит древняя мудрость. Знай свой род, своих дедов, предков, родственников и цени свой дом, свою деревню, город, свои родные 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й старину! Помни: ты не сам по себе, ты – член семьи, дорожи памятью своего 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85560"/>
            <a:ext cx="85726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buClr>
                <a:srgbClr val="00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тник Г.В. По имени называют, по отчеству величают //Русская речь. 1994. № 4. С. 125–126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Даль В. Толковый словарь живого великорусского языка. Т.2. М.: «Русский язык», 198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икова Л.И. Что в имени тебе моём// «Русский язык» №03 : Первое сентября,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арь имен. М.: «Научная книга»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перанская А.В. Словарь русских личных имен. М.: Изд-во АСТ, 1998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знавательн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ь представление о происхождении имени и фамилии людей, вызвать интерес к собственному имени и фамилии. Показать связь имен с историей определенной эпох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вивающ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формирова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через лексико-грамматический анализ слова – имени; выявлять связь имен с историей государства, професс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спитательн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ь человеческое достоинство, уважение к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71424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«Что значит имя? Роза пахнет розой,</a:t>
            </a:r>
            <a:br>
              <a:rPr sz="6000"/>
            </a:b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Хоть розой назови ее, хоть нет».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.Шекспи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Нет меж живущих людей, да не может и быть безымянных: В первый же миг по рождении каждый, убогий и знатный, имя, как сладостный дар, от родимых своих получает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 Гомер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нома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рмин этот связан с греческим словом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ном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Эта наука выделяет ряд разделов, среди которых существует и раздел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нтропонuми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(от греческого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нтропос – челове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нтрополог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наука о человеке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56908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онимы: это рекло, назвище, прозвище, название, прозвание, проимено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овицы о име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як человек свое имя знает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ын не родился, а уже имя ему дал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гатого по отчеству, а убогого по прозвищу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него доброе им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позорь моего и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ена нашего кр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85920"/>
            <a:ext cx="82296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ук Харитонов сын Григорьев, Нефёдко сын Кура, Григорий сын Филина, Нежданко,Зубко, Величко, Дробыш. Например, в «деревне Псовце над озером Псовцом» жили «Игнатко Матфеев да дети его Величко да Нежданко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мер, первого новосёла в новой деревне около Кочевиц звали Тупи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ена нашего кр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ыч, Ворон, Смычок, Жила, Бритик, Пузырь, Бисер, Кривуля, Кочадык, Ма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сель, Матушка (мужское имя), Цыпуля, Голован, Кощей, Продалмышонка, Таракан, Шоболда, Рогоза, Жировой, Капуста, Ждан, Пьяный, Морщило, Мороз, Мизгирь, Щелкун, Бурнаш, Курица, Ноговица и 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5:37:41Z</dcterms:created>
  <dc:creator>1</dc:creator>
  <dc:description/>
  <dc:language>en-US</dc:language>
  <cp:lastModifiedBy>Admin</cp:lastModifiedBy>
  <dcterms:modified xsi:type="dcterms:W3CDTF">2014-12-08T14:17:49Z</dcterms:modified>
  <cp:revision>11</cp:revision>
  <dc:subject/>
  <dc:title>Что в имени тебе моём?</dc:title>
</cp:coreProperties>
</file>