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9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B14-BB5E-45A4-8C06-36EDEDA5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ACB-D8DE-4693-9F11-ED4229A0A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18B-ACE5-4E30-BE3B-13A9908C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887-7CB3-4D07-9D32-0CDEB871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E4E-2EF6-4505-8495-6F7C359B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84CE-46C4-4231-9143-735B5BF1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B07-73CA-4EC1-96F4-53A62801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C94-E495-4F87-A279-35C468A0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BCE-A200-406B-9FE0-492168E7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E0D-5E81-4AED-885B-0881E674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D2E-5E99-4279-AEC5-744ED6AB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72F-A963-4C24-821F-86445825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B643-75BF-4430-AA1A-5D491F4652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1557360"/>
            <a:ext cx="7129440" cy="201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ПУТЕШЕСТВИЕ </a:t>
            </a:r>
            <a:br>
              <a:rPr sz="4400"/>
            </a:b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В МИР МУЗ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627280" y="3789360"/>
            <a:ext cx="388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340000" y="3716280"/>
            <a:ext cx="4753080" cy="15570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05c2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Внеурочное занятие в разнотрансформируемом пространстве кружкового объединения «Наследие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В Эрмитаже хранятся Собрания Древнего Египта, античности, эпохи Возрождения, XVII, XVIII, XIX 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Леонардо да Винчи «Мадонна Лита», «Мадонна Бенуа». Рембрандт—самая обширная коллек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Скульптуры  Огюста Роде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435280" y="5516280"/>
            <a:ext cx="3251160" cy="609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Аменхотеп I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XIX в. до н.э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Аменхотеп III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835280" y="1557360"/>
            <a:ext cx="3254400" cy="439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5733720"/>
            <a:ext cx="31780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 fontScale="92000"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Леонардо да Винчи. Мадонна Бену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1478 г.</a:t>
            </a: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Мадонна Бенуа"/>
          <p:cNvPicPr/>
          <p:nvPr/>
        </p:nvPicPr>
        <p:blipFill>
          <a:blip r:embed="rId2"/>
          <a:stretch/>
        </p:blipFill>
        <p:spPr>
          <a:xfrm>
            <a:off x="1042920" y="1916280"/>
            <a:ext cx="2297160" cy="362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66" name="Text Box 8"/>
          <p:cNvSpPr/>
          <p:nvPr/>
        </p:nvSpPr>
        <p:spPr>
          <a:xfrm>
            <a:off x="4859280" y="5734080"/>
            <a:ext cx="3167280" cy="951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Леонардо да Винчи. Мадонна Лит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1478-1482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Picture 10" descr="Мадонна Литта"/>
          <p:cNvPicPr/>
          <p:nvPr/>
        </p:nvPicPr>
        <p:blipFill>
          <a:blip r:embed="rId3"/>
          <a:stretch/>
        </p:blipFill>
        <p:spPr>
          <a:xfrm>
            <a:off x="4859280" y="1844640"/>
            <a:ext cx="2808360" cy="358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4897440" cy="8636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Рафаэль Сан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654"/>
                </a:solidFill>
                <a:latin typeface="Georgia"/>
              </a:rPr>
              <a:t>Мадонна с младенцем. 1504 г.</a:t>
            </a:r>
            <a:r>
              <a:rPr b="1" lang="ru-RU" sz="2800" spc="-1" strike="noStrike">
                <a:solidFill>
                  <a:srgbClr val="0056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Мадонна с младенцем"/>
          <p:cNvPicPr/>
          <p:nvPr/>
        </p:nvPicPr>
        <p:blipFill>
          <a:blip r:embed="rId2"/>
          <a:stretch/>
        </p:blipFill>
        <p:spPr>
          <a:xfrm>
            <a:off x="2666880" y="1519200"/>
            <a:ext cx="3810240" cy="3819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5516280"/>
            <a:ext cx="8229600" cy="865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Рембрандт фан Рейн (1606—1669). В Эрмитаже хранится двадцать шесть картин великого голланд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Флора"/>
          <p:cNvPicPr/>
          <p:nvPr/>
        </p:nvPicPr>
        <p:blipFill>
          <a:blip r:embed="rId2"/>
          <a:stretch/>
        </p:blipFill>
        <p:spPr>
          <a:xfrm>
            <a:off x="1042920" y="1700280"/>
            <a:ext cx="2497320" cy="3097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74" name="Text Box 7"/>
          <p:cNvSpPr/>
          <p:nvPr/>
        </p:nvSpPr>
        <p:spPr>
          <a:xfrm>
            <a:off x="684360" y="5075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Флора. 1634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5" name="Picture 10" descr="Флора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284720" y="1700280"/>
            <a:ext cx="3889440" cy="3093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76" name="Text Box 11"/>
          <p:cNvSpPr/>
          <p:nvPr/>
        </p:nvSpPr>
        <p:spPr>
          <a:xfrm>
            <a:off x="4427640" y="5084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Даная. 1636 г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148360" y="5444640"/>
            <a:ext cx="3527280" cy="792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О. Роден. «Вечная весна». 1897. Мрам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m00g1"/>
          <p:cNvPicPr/>
          <p:nvPr/>
        </p:nvPicPr>
        <p:blipFill>
          <a:blip r:embed="rId1"/>
          <a:stretch/>
        </p:blipFill>
        <p:spPr>
          <a:xfrm>
            <a:off x="1195560" y="274680"/>
            <a:ext cx="675144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Роден Рене Франсуа Огюст"/>
          <p:cNvPicPr/>
          <p:nvPr/>
        </p:nvPicPr>
        <p:blipFill>
          <a:blip r:embed="rId2"/>
          <a:stretch/>
        </p:blipFill>
        <p:spPr>
          <a:xfrm>
            <a:off x="755640" y="1628640"/>
            <a:ext cx="3672000" cy="446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20160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Музей Лувр находится во Франции,  в Париже. Это здание бывший дворец французских королей- Лув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Музей Лувр, учрежденный Французской Республикой в 1793 году и является одними из первых европейских музее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con"/>
          <p:cNvPicPr/>
          <p:nvPr/>
        </p:nvPicPr>
        <p:blipFill>
          <a:blip r:embed="rId1"/>
          <a:stretch/>
        </p:blipFill>
        <p:spPr>
          <a:xfrm>
            <a:off x="1332000" y="260280"/>
            <a:ext cx="6696000" cy="108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82" name="Picture 5" descr="panorama"/>
          <p:cNvPicPr/>
          <p:nvPr/>
        </p:nvPicPr>
        <p:blipFill>
          <a:blip r:embed="rId2"/>
          <a:stretch/>
        </p:blipFill>
        <p:spPr>
          <a:xfrm>
            <a:off x="611280" y="1787400"/>
            <a:ext cx="7870680" cy="2444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Лувр – одно из величайших собраний произведений искусств в мире. В Лувре хранятся коллекции: --Древний Восток; --Древний Египет; --Древняя Греция и Рим; --Скульптура; --Живопись; --Собрание рисунков, гравюр и декоративно-прикладное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3a39"/>
                </a:solidFill>
                <a:latin typeface="Georgia"/>
              </a:rPr>
              <a:t>Ника Самафракийская, Венера Милосская, «Джоконда» Леонардо да Винчи</a:t>
            </a: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0" y="4941720"/>
            <a:ext cx="4114800" cy="1184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654"/>
                </a:solidFill>
                <a:latin typeface="Georgia"/>
              </a:rPr>
              <a:t>Статуя писц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654"/>
                </a:solidFill>
                <a:latin typeface="Georgia"/>
              </a:rPr>
              <a:t>Сакка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2620-2350 до н.э. (4-ая - 5-ая династи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расписанная статуя из известня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высота 53.7 см; ширина 44 см; диаметр 35 с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87" name="Picture 6" descr="09m"/>
          <p:cNvPicPr/>
          <p:nvPr/>
        </p:nvPicPr>
        <p:blipFill>
          <a:blip r:embed="rId2"/>
          <a:stretch/>
        </p:blipFill>
        <p:spPr>
          <a:xfrm>
            <a:off x="900000" y="1916280"/>
            <a:ext cx="2895840" cy="3485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95280" y="5877000"/>
            <a:ext cx="3456000" cy="68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654"/>
                </a:solidFill>
                <a:latin typeface="Georgia"/>
              </a:rPr>
              <a:t>"Венера Милосская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Около 100 до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54"/>
                </a:solidFill>
                <a:latin typeface="Georgia"/>
              </a:rPr>
              <a:t>Мрамор Высота 202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90" name="Picture 6" descr="Венера Милосская"/>
          <p:cNvPicPr/>
          <p:nvPr/>
        </p:nvPicPr>
        <p:blipFill>
          <a:blip r:embed="rId2"/>
          <a:stretch/>
        </p:blipFill>
        <p:spPr>
          <a:xfrm>
            <a:off x="1258920" y="1700280"/>
            <a:ext cx="1503360" cy="410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Нике Самофракийская"/>
          <p:cNvPicPr/>
          <p:nvPr/>
        </p:nvPicPr>
        <p:blipFill>
          <a:blip r:embed="rId3"/>
          <a:stretch/>
        </p:blipFill>
        <p:spPr>
          <a:xfrm>
            <a:off x="6012000" y="1700280"/>
            <a:ext cx="1896840" cy="3673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4932360" y="5805360"/>
            <a:ext cx="3527280" cy="785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Нике Самофракийская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54"/>
                </a:solidFill>
                <a:latin typeface="Georgia"/>
              </a:rPr>
              <a:t>Около 190 до н.э.</a:t>
            </a: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ЦЕЛИ И ЗАДАЧИ ЗА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е с основами исследовательской работы в школьной музейной комна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пособностей к творческой и поисково –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чувства ответственности за сохранение наследия прош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4508280"/>
            <a:ext cx="4103640" cy="1617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Леонардо да Вин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Портрет Моны Лизы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, проз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Джоко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95" name="Picture 5" descr="pic0056_800"/>
          <p:cNvPicPr/>
          <p:nvPr/>
        </p:nvPicPr>
        <p:blipFill>
          <a:blip r:embed="rId2"/>
          <a:stretch/>
        </p:blipFill>
        <p:spPr>
          <a:xfrm>
            <a:off x="5003640" y="1628640"/>
            <a:ext cx="3267360" cy="4586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00720" y="4724280"/>
            <a:ext cx="4186080" cy="14018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Жан-Антуан Ватт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Пьерро</a:t>
            </a: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 (также известно под названием </a:t>
            </a: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Жиль</a:t>
            </a: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Прибл. 1718-17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Пьерро (также известно под названием Жиль)"/>
          <p:cNvPicPr/>
          <p:nvPr/>
        </p:nvPicPr>
        <p:blipFill>
          <a:blip r:embed="rId1"/>
          <a:stretch/>
        </p:blipFill>
        <p:spPr>
          <a:xfrm>
            <a:off x="755640" y="1844640"/>
            <a:ext cx="3260880" cy="4032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98" name="Picture 6" descr="icon"/>
          <p:cNvPicPr/>
          <p:nvPr/>
        </p:nvPicPr>
        <p:blipFill>
          <a:blip r:embed="rId2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157720"/>
            <a:ext cx="8229600" cy="968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Эжен Делакру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Свобода, ведущая народ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(28 июля 1830 года) 18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icon"/>
          <p:cNvPicPr/>
          <p:nvPr/>
        </p:nvPicPr>
        <p:blipFill>
          <a:blip r:embed="rId1"/>
          <a:stretch/>
        </p:blipFill>
        <p:spPr>
          <a:xfrm>
            <a:off x="1547640" y="417600"/>
            <a:ext cx="640908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ccff"/>
            </a:outerShdw>
          </a:effectLst>
        </p:spPr>
      </p:pic>
      <p:pic>
        <p:nvPicPr>
          <p:cNvPr id="101" name="Picture 6" descr="Свобода, ведущая народ (28 июля 1830 года)"/>
          <p:cNvPicPr/>
          <p:nvPr/>
        </p:nvPicPr>
        <p:blipFill>
          <a:blip r:embed="rId2"/>
          <a:stretch/>
        </p:blipFill>
        <p:spPr>
          <a:xfrm>
            <a:off x="2268360" y="1608120"/>
            <a:ext cx="4248360" cy="33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87280" y="260280"/>
            <a:ext cx="4753080" cy="1152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300640"/>
            <a:ext cx="81471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Великобритания, Лондон, в специально построенном здании. Основан в 1753г по решению Британского парламента. Первый в Европе  государственный му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image_convert"/>
          <p:cNvPicPr/>
          <p:nvPr/>
        </p:nvPicPr>
        <p:blipFill>
          <a:blip r:embed="rId1"/>
          <a:srcRect l="0" t="0" r="0" b="7593"/>
          <a:stretch/>
        </p:blipFill>
        <p:spPr>
          <a:xfrm>
            <a:off x="2050920" y="1413000"/>
            <a:ext cx="5211720" cy="3611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wha_lo"/>
          <p:cNvPicPr/>
          <p:nvPr/>
        </p:nvPicPr>
        <p:blipFill>
          <a:blip r:embed="rId2"/>
          <a:stretch/>
        </p:blipFill>
        <p:spPr>
          <a:xfrm>
            <a:off x="1692360" y="260280"/>
            <a:ext cx="1314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55640" y="274320"/>
            <a:ext cx="532908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0036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--Коллекции первобытного искусства; Древнего Востока; античности; европейского и восточного средневековья; древние рукописные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a39"/>
                </a:solidFill>
                <a:latin typeface="Georgia"/>
              </a:rPr>
              <a:t>--Живопись. Эль Греко, Веласкес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wha_lo"/>
          <p:cNvPicPr/>
          <p:nvPr/>
        </p:nvPicPr>
        <p:blipFill>
          <a:blip r:embed="rId1"/>
          <a:stretch/>
        </p:blipFill>
        <p:spPr>
          <a:xfrm>
            <a:off x="1258920" y="26028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Британский музей"/>
          <p:cNvPicPr/>
          <p:nvPr/>
        </p:nvPicPr>
        <p:blipFill>
          <a:blip r:embed="rId2"/>
          <a:stretch/>
        </p:blipFill>
        <p:spPr>
          <a:xfrm>
            <a:off x="755640" y="1628640"/>
            <a:ext cx="3098880" cy="460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300280"/>
            <a:ext cx="46195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Центральный барельеф восточного фриза Парфенона. Афины, Греция (438-432 гг. до н.э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Центральный барельеф восточного фриза Парфенона. (438-432 гг. до н.э.)"/>
          <p:cNvPicPr/>
          <p:nvPr/>
        </p:nvPicPr>
        <p:blipFill>
          <a:blip r:embed="rId1"/>
          <a:stretch/>
        </p:blipFill>
        <p:spPr>
          <a:xfrm>
            <a:off x="539640" y="1916280"/>
            <a:ext cx="4464000" cy="2498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12" name="Picture 4" descr="Статуя Диониса с восточного фрагмента Парфенона"/>
          <p:cNvPicPr/>
          <p:nvPr/>
        </p:nvPicPr>
        <p:blipFill>
          <a:blip r:embed="rId2"/>
          <a:stretch/>
        </p:blipFill>
        <p:spPr>
          <a:xfrm>
            <a:off x="5364000" y="1989000"/>
            <a:ext cx="3238560" cy="2428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113" name="Text Box 5"/>
          <p:cNvSpPr/>
          <p:nvPr/>
        </p:nvSpPr>
        <p:spPr>
          <a:xfrm>
            <a:off x="5508720" y="5300640"/>
            <a:ext cx="30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атуя Дионис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4" name="Picture 6" descr="wha_lo"/>
          <p:cNvPicPr/>
          <p:nvPr/>
        </p:nvPicPr>
        <p:blipFill>
          <a:blip r:embed="rId3"/>
          <a:stretch/>
        </p:blipFill>
        <p:spPr>
          <a:xfrm>
            <a:off x="1258920" y="260280"/>
            <a:ext cx="131436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555640" y="259920"/>
            <a:ext cx="57704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453708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5654"/>
                </a:solidFill>
                <a:latin typeface="Georgia"/>
              </a:rPr>
              <a:t>В Британском музее находится огромная коллекция памятников древнеегипетского искусства, особенно богатая монументальной скульптурой; знаменитые рельефы ассирийских дворцов; уникальные комплексы греческой скульптуры, включая мраморы Парфенона, — творение Фидия, одного из наиболее выдающихся мастеров Древней Греции, а также рельефы и статуи, украшавшие Мавзолей Галикарнасский, который греки называли одним из семи чудес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wha_lo"/>
          <p:cNvPicPr/>
          <p:nvPr/>
        </p:nvPicPr>
        <p:blipFill>
          <a:blip r:embed="rId1"/>
          <a:stretch/>
        </p:blipFill>
        <p:spPr>
          <a:xfrm>
            <a:off x="1692360" y="333360"/>
            <a:ext cx="131436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mummy"/>
          <p:cNvPicPr/>
          <p:nvPr/>
        </p:nvPicPr>
        <p:blipFill>
          <a:blip r:embed="rId2"/>
          <a:stretch/>
        </p:blipFill>
        <p:spPr>
          <a:xfrm>
            <a:off x="826920" y="1916280"/>
            <a:ext cx="3248280" cy="370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4535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Impact"/>
              </a:rPr>
              <a:t>Британ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5445000"/>
            <a:ext cx="6769080" cy="681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Д.Веласкес. Венера перед зерк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wha_lo"/>
          <p:cNvPicPr/>
          <p:nvPr/>
        </p:nvPicPr>
        <p:blipFill>
          <a:blip r:embed="rId1"/>
          <a:stretch/>
        </p:blipFill>
        <p:spPr>
          <a:xfrm>
            <a:off x="2050920" y="333360"/>
            <a:ext cx="131472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Веласкес. Венера перед зеркалом"/>
          <p:cNvPicPr/>
          <p:nvPr/>
        </p:nvPicPr>
        <p:blipFill>
          <a:blip r:embed="rId2"/>
          <a:stretch/>
        </p:blipFill>
        <p:spPr>
          <a:xfrm>
            <a:off x="2340000" y="1879560"/>
            <a:ext cx="4537080" cy="3149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6840" y="1773360"/>
            <a:ext cx="2530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Представьте себе, что Вы в Мадрид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Одной из главных его ценностей является музей Прадо, Национальный музей живописи и скульптуры, или, как его уважительно величают испанцы, «Museo del Prado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прадо"/>
          <p:cNvPicPr/>
          <p:nvPr/>
        </p:nvPicPr>
        <p:blipFill>
          <a:blip r:embed="rId2"/>
          <a:stretch/>
        </p:blipFill>
        <p:spPr>
          <a:xfrm>
            <a:off x="2987640" y="1773360"/>
            <a:ext cx="5826240" cy="43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Крупнейшее художественное собрание Испании образовано испанских королевских и церковных коллекций. В постановлении об открытии музея в 1819г.говорило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a39"/>
                </a:solidFill>
                <a:latin typeface="Georgia"/>
              </a:rPr>
              <a:t>«Целью музея является давать знания, воспитывать художественный вкус, как у учеников, так и у профессоров художественных академий, а так же у иностранцев, что бы создать Испании славу, которой она заслужива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Сейчас живописная коллекция музея насчитывает более 8600 поло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100"/>
              </a:spcBef>
              <a:buClr>
                <a:srgbClr val="ff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ОРГ. МО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ка наличия учащихся на занят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внешнего ви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ности рабочих мест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ние в группе деловой обста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427280" y="1599840"/>
            <a:ext cx="4259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Большую роль в пополнении королевских коллекций  сыграл придворный живописец Филиппа </a:t>
            </a:r>
            <a:r>
              <a:rPr b="0" lang="en-US" sz="2400" spc="-1" strike="noStrike">
                <a:solidFill>
                  <a:srgbClr val="005654"/>
                </a:solidFill>
                <a:latin typeface="Georgia"/>
              </a:rPr>
              <a:t>IV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Диего Веласкес.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Он закупил произведения великих итальянских (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Тициан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) и фламанд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П.П.Рубенс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) мастеров. В музее хранятся и его картины. </a:t>
            </a:r>
            <a:r>
              <a:rPr b="0" lang="ru-RU" sz="2400" spc="-1" strike="noStrike">
                <a:solidFill>
                  <a:srgbClr val="003a39"/>
                </a:solidFill>
                <a:latin typeface="Georgia"/>
              </a:rPr>
              <a:t>Коллекция произведений Франсиско Гойя, картина Пабло Пикассо «Герни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веласкес Менины"/>
          <p:cNvPicPr/>
          <p:nvPr/>
        </p:nvPicPr>
        <p:blipFill>
          <a:blip r:embed="rId2"/>
          <a:stretch/>
        </p:blipFill>
        <p:spPr>
          <a:xfrm>
            <a:off x="636480" y="1773360"/>
            <a:ext cx="3476880" cy="3960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132" name="Text Box 6"/>
          <p:cNvSpPr/>
          <p:nvPr/>
        </p:nvSpPr>
        <p:spPr>
          <a:xfrm>
            <a:off x="611280" y="5950080"/>
            <a:ext cx="3529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654"/>
                </a:solidFill>
                <a:latin typeface="Georgia"/>
              </a:rPr>
              <a:t>Д.Веласкес «Менины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788000" y="5660640"/>
            <a:ext cx="403848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Тициан «Автопортр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5661000"/>
            <a:ext cx="4038480" cy="720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Тициан «Дана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0zagprado"/>
          <p:cNvPicPr/>
          <p:nvPr/>
        </p:nvPicPr>
        <p:blipFill>
          <a:blip r:embed="rId1"/>
          <a:stretch/>
        </p:blipFill>
        <p:spPr>
          <a:xfrm>
            <a:off x="1187280" y="260280"/>
            <a:ext cx="6820200" cy="115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тициан"/>
          <p:cNvPicPr/>
          <p:nvPr/>
        </p:nvPicPr>
        <p:blipFill>
          <a:blip r:embed="rId2"/>
          <a:stretch/>
        </p:blipFill>
        <p:spPr>
          <a:xfrm>
            <a:off x="6012000" y="1844640"/>
            <a:ext cx="2333520" cy="3313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37" name="Picture 7" descr="даная"/>
          <p:cNvPicPr/>
          <p:nvPr/>
        </p:nvPicPr>
        <p:blipFill>
          <a:blip r:embed="rId3"/>
          <a:stretch/>
        </p:blipFill>
        <p:spPr>
          <a:xfrm>
            <a:off x="684360" y="1844640"/>
            <a:ext cx="4464000" cy="334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00720" y="5660640"/>
            <a:ext cx="4186080" cy="8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Питер Пауль Рубен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«Сад любв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zagprado"/>
          <p:cNvPicPr/>
          <p:nvPr/>
        </p:nvPicPr>
        <p:blipFill>
          <a:blip r:embed="rId1"/>
          <a:stretch/>
        </p:blipFill>
        <p:spPr>
          <a:xfrm>
            <a:off x="971640" y="260280"/>
            <a:ext cx="6819840" cy="1152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рубенс сад любви"/>
          <p:cNvPicPr/>
          <p:nvPr/>
        </p:nvPicPr>
        <p:blipFill>
          <a:blip r:embed="rId2"/>
          <a:stretch/>
        </p:blipFill>
        <p:spPr>
          <a:xfrm>
            <a:off x="1547640" y="1557360"/>
            <a:ext cx="5897880" cy="3973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788000" y="5516640"/>
            <a:ext cx="40384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Ф. Гойя. «Расстрел 3 мая 1808г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516280"/>
            <a:ext cx="4038480" cy="93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Ф.Гойя. «Портрет семьи Карла </a:t>
            </a:r>
            <a:r>
              <a:rPr b="0" lang="en-US" sz="2400" spc="-1" strike="noStrike">
                <a:solidFill>
                  <a:srgbClr val="005654"/>
                </a:solidFill>
                <a:latin typeface="Georgia"/>
              </a:rPr>
              <a:t>IV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гойя Портрет cемьи Карла IV"/>
          <p:cNvPicPr/>
          <p:nvPr/>
        </p:nvPicPr>
        <p:blipFill>
          <a:blip r:embed="rId1"/>
          <a:stretch/>
        </p:blipFill>
        <p:spPr>
          <a:xfrm>
            <a:off x="324000" y="1773360"/>
            <a:ext cx="4032000" cy="33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44" name="Picture 5" descr="гойяРасстрел 3 мая 1808 года"/>
          <p:cNvPicPr/>
          <p:nvPr/>
        </p:nvPicPr>
        <p:blipFill>
          <a:blip r:embed="rId2"/>
          <a:stretch/>
        </p:blipFill>
        <p:spPr>
          <a:xfrm>
            <a:off x="4643280" y="1844640"/>
            <a:ext cx="4249800" cy="3287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pic>
        <p:nvPicPr>
          <p:cNvPr id="145" name="Picture 6" descr="0zagprado"/>
          <p:cNvPicPr/>
          <p:nvPr/>
        </p:nvPicPr>
        <p:blipFill>
          <a:blip r:embed="rId3"/>
          <a:stretch/>
        </p:blipFill>
        <p:spPr>
          <a:xfrm>
            <a:off x="1187280" y="260280"/>
            <a:ext cx="6820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124000" y="5661000"/>
            <a:ext cx="5112000" cy="75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П.Пикассо «Гер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0zagprado"/>
          <p:cNvPicPr/>
          <p:nvPr/>
        </p:nvPicPr>
        <p:blipFill>
          <a:blip r:embed="rId1"/>
          <a:stretch/>
        </p:blipFill>
        <p:spPr>
          <a:xfrm>
            <a:off x="1187280" y="260280"/>
            <a:ext cx="6820200" cy="11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грника1"/>
          <p:cNvPicPr/>
          <p:nvPr/>
        </p:nvPicPr>
        <p:blipFill>
          <a:blip r:embed="rId2"/>
          <a:stretch/>
        </p:blipFill>
        <p:spPr>
          <a:xfrm>
            <a:off x="611280" y="1700280"/>
            <a:ext cx="8064360" cy="3441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43280" y="2708280"/>
            <a:ext cx="404352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Одно из крупнейших в мире собраний живописи. Находится в Германии, г.Дрезден, в здании дворца саксонских курфюрстов -Цвингер. Основано в 1560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51" name="Picture 6" descr="цвингир дрезден"/>
          <p:cNvPicPr/>
          <p:nvPr/>
        </p:nvPicPr>
        <p:blipFill>
          <a:blip r:embed="rId2"/>
          <a:stretch/>
        </p:blipFill>
        <p:spPr>
          <a:xfrm>
            <a:off x="324000" y="1989000"/>
            <a:ext cx="4232160" cy="4069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03280" y="2349000"/>
            <a:ext cx="728352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В музее хран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54"/>
                </a:solidFill>
                <a:latin typeface="Georgia"/>
              </a:rPr>
              <a:t>--Произведения итальянских и нидерландских живописцев      XVI-XVIIв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a39"/>
                </a:solidFill>
                <a:latin typeface="Georgia"/>
              </a:rPr>
              <a:t>Рафаэль «Сикстинская мадонна», Джорджоне «Спящая Венера», полотна Рембрандта, Тици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1260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076720" y="5660640"/>
            <a:ext cx="361008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654"/>
                </a:solidFill>
                <a:latin typeface="Georgia"/>
              </a:rPr>
              <a:t>Рафаэль Санти «Сикстинская мадон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56" name="Picture 5" descr="dresd14"/>
          <p:cNvPicPr/>
          <p:nvPr/>
        </p:nvPicPr>
        <p:blipFill>
          <a:blip r:embed="rId2"/>
          <a:stretch/>
        </p:blipFill>
        <p:spPr>
          <a:xfrm>
            <a:off x="900000" y="1557360"/>
            <a:ext cx="3448080" cy="4782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907640" y="5805000"/>
            <a:ext cx="57596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654"/>
                </a:solidFill>
                <a:latin typeface="Georgia"/>
              </a:rPr>
              <a:t>Джорджоне «Спящая Вен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59" name="Picture 5" descr="venus"/>
          <p:cNvPicPr/>
          <p:nvPr/>
        </p:nvPicPr>
        <p:blipFill>
          <a:blip r:embed="rId2"/>
          <a:stretch/>
        </p:blipFill>
        <p:spPr>
          <a:xfrm>
            <a:off x="2411280" y="1916280"/>
            <a:ext cx="4764240" cy="339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5589360"/>
            <a:ext cx="4186080" cy="89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Рембрандт ван Рейн «Автопортрет с Саски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Безымянный"/>
          <p:cNvPicPr/>
          <p:nvPr/>
        </p:nvPicPr>
        <p:blipFill>
          <a:blip r:embed="rId1"/>
          <a:srcRect l="0" t="0" r="0" b="5514"/>
          <a:stretch/>
        </p:blipFill>
        <p:spPr>
          <a:xfrm>
            <a:off x="1763640" y="260280"/>
            <a:ext cx="5761080" cy="1224000"/>
          </a:xfrm>
          <a:prstGeom prst="rect">
            <a:avLst/>
          </a:prstGeom>
          <a:ln w="38160">
            <a:solidFill>
              <a:srgbClr val="996633"/>
            </a:solidFill>
            <a:miter/>
          </a:ln>
        </p:spPr>
      </p:pic>
      <p:pic>
        <p:nvPicPr>
          <p:cNvPr id="162" name="Picture 5" descr="dresd13"/>
          <p:cNvPicPr/>
          <p:nvPr/>
        </p:nvPicPr>
        <p:blipFill>
          <a:blip r:embed="rId2"/>
          <a:stretch/>
        </p:blipFill>
        <p:spPr>
          <a:xfrm>
            <a:off x="4716360" y="1557360"/>
            <a:ext cx="3994200" cy="4924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Georgia"/>
              </a:rPr>
              <a:t>2. ЧТО МЫ УЖЕ ЗНАЕМ О МУЗЕЯ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Georgia"/>
              </a:rPr>
              <a:t>3. ШКОЛЬНЫЕ МУЗЕ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Georgia"/>
              </a:rPr>
              <a:t>ШКОЛЬНЫЕ МУЗЕИ –              </a:t>
            </a:r>
            <a:r>
              <a:rPr b="1" lang="ru-RU" sz="3600" spc="-1" strike="noStrike">
                <a:solidFill>
                  <a:srgbClr val="003a39"/>
                </a:solidFill>
                <a:latin typeface="Georgia"/>
              </a:rPr>
              <a:t>это негосударственные музеи или музейные комнаты, работающие на общественных началах, и выполняющие те же функции, что и государствен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РАБОТА СО СЛОВАРЁ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зейные экспонаты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предметы, выставлен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ля обозре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ы дошедшие до нас из другого време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68360" y="475920"/>
            <a:ext cx="822960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4. ЭКСКУРС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В ШКОЛЬНУЮ ИСТОРИКО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КРАЕВЕДЧЕСКУ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КОМНАТ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6836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5.  ИССЛЕДОВАТЕЛЬСКАЯ ДЕЯТЕЛЬНОСТЬ МУЗЕ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чурова 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ами два музейных экспоната с одним предназначением. Это «Рубель» и «Скалка»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уси довольно долго использовали глажку при помощи двух инструментов: небольшой палки с ровным круглым сечением, называвшейся "вальком", "качалкой" или просто "скалкой" и рифленой доски, имевшей множество названий - "рубель", "ребрак", "пральни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бель - это деревянная доска с поперечными желобками, а скалка - это просто палка. Бельё, одежду или ткань накручивали на скалку, держа одной рукой, а сверху другой рукой катали рубель. Бельё разглаживалось, и называлось это «катать бельё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ТВОРЧЕСКОЕ   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Попробуйте самостоятельно прогладить полотенце при помощи рубеля и ска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528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Как выдумаете, чем отличается школьный музей от других музе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Школьные музе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ются негосударственными музеями, работающими на общественных началах, и выполняют те же функции, что и государств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так ж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хранятся подлинные материалы, собранные в экспозиции. Музей занимает отдельное помещение с необходимым оборудова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, что собрано в музее называется «Музейными экспонатам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ышкина Д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 музее нужно не только знать историю предмета, но и уметь давать его описание. Описание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трибуц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ся по план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.Название предм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убель, (ребрак, пральн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Назна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убе́ль — предмет домашнего быта, который в старину </a:t>
            </a: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рус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женщины использовали для выколачивания (</a:t>
            </a:r>
            <a:r>
              <a:rPr b="0" lang="ru-RU" sz="1800" spc="-1" strike="noStrike" u="sng">
                <a:solidFill>
                  <a:srgbClr val="161645"/>
                </a:solidFill>
                <a:uFillTx/>
                <a:latin typeface="Arial"/>
              </a:rPr>
              <a:t>стирки</a:t>
            </a:r>
            <a:r>
              <a:rPr b="0" lang="ru-RU" sz="1800" spc="-1" strike="noStrike">
                <a:solidFill>
                  <a:srgbClr val="161645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бел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Время создания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 место бытования, связь с кра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ыл создан еще в период Древней Руси. Применялся повсеместно на Руси в том числе и у н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Материа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 древес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5. Техника изгото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учная 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6. Легенда: кому принадлежала, каким образом попала в музей, подарена  или на временное хра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едан в школьный музей жительницей д. Синицына … (см. в инвентарной книг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7.  Авторская принадлежнос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еизвестный мас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Georgia"/>
              </a:rPr>
              <a:t>6.  ПОИСКОВО - ИССЛЕДОВАТЕЛЬСКАЯ ДЕЯТЕЛЬНОСТЬ МУЗЕ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ЧТО ЖЕ ТАКОЕ ИССЛЕДО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- это поиск истины, познание неизвест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ЧТО ТАКОЕ МУЗЕЙ?</a:t>
            </a:r>
            <a:br>
              <a:rPr sz="4400"/>
            </a:br>
            <a:r>
              <a:rPr b="1" lang="ru-RU" sz="3200" spc="-1" strike="noStrike">
                <a:solidFill>
                  <a:srgbClr val="ff9900"/>
                </a:solidFill>
                <a:latin typeface="Georgia"/>
              </a:rPr>
              <a:t>(работа со словарё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99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5654"/>
                </a:solidFill>
                <a:latin typeface="Georgia"/>
              </a:rPr>
              <a:t>"Mouseion: учреждение, в котором хранятся и демонстрируются коллекция произведений искусств, предметы, представляющие исторический, эстетический или научный интерес.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Georgia"/>
              </a:rPr>
              <a:t>ЭТАПЫ РАБОТЫ НАД ИССЛЕДОВАТЕЛЬСКИМ ПРО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ор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вится проблема(либо гипоте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е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бличное высту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ы, анали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7. 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же нового и интересного вы сегодня узнали для себ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й этап занятия был наиболее интересе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равилась ли вам такая форма проведения за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Georgia"/>
              </a:rPr>
              <a:t>8. 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следующему занятию  - подготовить  историю любого,  понравившегося  экспона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утюга,  рушника, горшка, ухвата и т. д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, что в школах  есть музе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нить времён не прерв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ит, вместе все-таки суме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ошлым удержать незримо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в музей пришел не просто гост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мять сердца здесь ты ожи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, станет хоть немного про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м понять сегодняшние д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оснись к чужой судьбе  и жиз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вигам отцов ты поклон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же научись служить Отчиз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 прожить достойно свою жизн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в музей тропа не зараста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мужает наша детво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быстрее каждый осозн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втра вырастает из вч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ДЛЯ ЧЕГО НУЖНЫ МУЗЕ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КАКИЕ БЫВАЮТ МУЗЕ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КАК ВЫ ДУМАЕТЕ, ЧТО БЫ ОТВЕТИЛИ САМИ МУЗЕИ НА ВОПРОС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«Что хранится в Ваших стен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5654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НАЗОВИТЕ САМЫЕ КРУПНЫЕ МУЗЕИ МИРА, РОССИ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99"/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Среди художественных музеев мира Эрмитажу принадлежит почетное место. В этом величайшем музее хранится свыше двух с половиной миллионов памятников культуры и искусства разных эпох, стран и наро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654"/>
                </a:solidFill>
                <a:latin typeface="Georgia"/>
              </a:rPr>
              <a:t>От дворцового художественного собрания, доступного только узкому кругу знати, до подлинно народного музея, сокровища которого несут радость и красоту миллионам людей, такой путь прошел Эрмитаж за 250 лет своего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hm00g1"/>
          <p:cNvPicPr/>
          <p:nvPr/>
        </p:nvPicPr>
        <p:blipFill>
          <a:blip r:embed="rId1"/>
          <a:stretch/>
        </p:blipFill>
        <p:spPr>
          <a:xfrm>
            <a:off x="900000" y="404640"/>
            <a:ext cx="7258320" cy="12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m00g1"/>
          <p:cNvPicPr/>
          <p:nvPr/>
        </p:nvPicPr>
        <p:blipFill>
          <a:blip r:embed="rId1"/>
          <a:stretch/>
        </p:blipFill>
        <p:spPr>
          <a:xfrm>
            <a:off x="826920" y="333360"/>
            <a:ext cx="7258320" cy="1228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Растрелли Ф"/>
          <p:cNvPicPr/>
          <p:nvPr/>
        </p:nvPicPr>
        <p:blipFill>
          <a:blip r:embed="rId2">
            <a:lum bright="12000"/>
          </a:blip>
          <a:srcRect l="0" t="0" r="0" b="18501"/>
          <a:stretch/>
        </p:blipFill>
        <p:spPr>
          <a:xfrm>
            <a:off x="1116000" y="1773360"/>
            <a:ext cx="6662880" cy="33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fff99">
                <a:alpha val="50000"/>
              </a:srgbClr>
            </a:outerShdw>
          </a:effectLst>
        </p:spPr>
      </p:pic>
      <p:sp>
        <p:nvSpPr>
          <p:cNvPr id="56" name="Text Box 6"/>
          <p:cNvSpPr/>
          <p:nvPr/>
        </p:nvSpPr>
        <p:spPr>
          <a:xfrm>
            <a:off x="1042920" y="572292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042920" y="5445000"/>
            <a:ext cx="698508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Музей расположен в России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5654"/>
                </a:solidFill>
                <a:latin typeface="Georgia"/>
              </a:rPr>
              <a:t>г. Санкт-Петербург,  в здании Зимнего дворца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8T17:44:21Z</dcterms:created>
  <dc:creator>matriks</dc:creator>
  <dc:description/>
  <dc:language>en-US</dc:language>
  <cp:lastModifiedBy>B-50</cp:lastModifiedBy>
  <dcterms:modified xsi:type="dcterms:W3CDTF">2017-04-16T06:08:51Z</dcterms:modified>
  <cp:revision>34</cp:revision>
  <dc:subject/>
  <dc:title>МУЗЕИ МИРА</dc:title>
</cp:coreProperties>
</file>