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11.png" ContentType="image/png"/>
  <Override PartName="/ppt/media/image19.jpeg" ContentType="image/jpeg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9.jpeg" ContentType="image/jpeg"/>
  <Override PartName="/ppt/media/image26.gif" ContentType="image/gif"/>
  <Override PartName="/ppt/media/image24.gif" ContentType="image/gif"/>
  <Override PartName="/ppt/media/image16.jpeg" ContentType="image/jpeg"/>
  <Override PartName="/ppt/media/image23.jpeg" ContentType="image/jpeg"/>
  <Override PartName="/ppt/media/image15.gif" ContentType="image/gif"/>
  <Override PartName="/ppt/media/image14.gif" ContentType="image/gif"/>
  <Override PartName="/ppt/media/image17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FC1-5768-4107-A160-27A02C96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18B-67C7-4FD9-AA0A-55F1F180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CCA-0D66-4045-89ED-48E8E1E5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55D-9BE0-4C57-ABF8-CA1C68D1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CD7E-F689-41F4-A89F-C9A6797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E5D-3A87-48D1-ABA0-C70AF460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19B-65B3-4A02-8848-BA01FE56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0709-CCC3-4102-8E1D-27111D52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464-D47E-47EA-8C05-2330937F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3ADE-BA0C-4E8A-9E36-FCE501F4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3323-7A51-4FA9-A03D-6654A727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72A-4B7B-4ADE-85B0-F214B3D9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84E9-F4FD-441F-AACE-1AA1EB9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8637-2844-40B4-AAC7-9A53761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C86F-EF6A-4E13-AB49-AD43333E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F87B-BB62-46AF-B51C-D43E8CC0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9E95-5A61-4296-9368-CD62FB42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74EA-8D6D-44B5-9C71-E0018392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C25C-0B19-4635-AD6F-A9F111C2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BBFE-A789-47D7-B8EC-F085D5FD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306B-C12C-47B4-8694-38DA96C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9CBE-E9F7-4F77-827D-59659C45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A16-0B3F-4CB7-9B8B-59ACB9B0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47F5-2DAA-4E92-8128-E1600AB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8CAA-3533-42DB-A942-BFE5078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3905-C0F2-4FF5-9BBF-6B40F4F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927E-F873-4650-92A2-7D4FAFC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D789-FE68-4E5A-B8EF-FD291BDC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5EB0-72A4-4320-B37E-EF4E2829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27A2-AA71-4E91-BA1F-782492A5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8394-EDBA-48ED-943D-38336FB6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07181-B7B1-46BB-87FA-003A826B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D18D-541F-47F2-93A1-F413C87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77E-AEBC-4ECF-A5F0-7DA5B9C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8F5B5-3636-407D-9199-2EA74A6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3361-DDA4-437D-BB05-BD6E784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06DA-4960-4807-8CC3-5130685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108D-16CC-4CA5-8266-BACCF7B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F72D-1313-42B6-B9AA-E9C7D7D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7113-F1D7-417C-B533-3391B82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E6A3-57E0-4C23-AF9D-02A00A83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FA1B7-F626-4F82-9265-DE90B78B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8E93-42C2-4F29-89F3-55039550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C7A0-756E-4FFB-B39A-7361AFBE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8A8-F8E0-4B04-BBBA-16DC7900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74A2-501A-4C80-948F-634A417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5F65-267A-4807-8CE8-292267EC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5DAC-89E3-4388-8BDF-73C3F667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777F-647E-4DE5-9B06-306EEE8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AB93-07BD-4103-B732-A896C50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49AD-1C08-4A79-BAC9-5A8F88E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7DCD-9ABF-4C55-B63F-0F1B833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C713-F567-49DE-8971-5A04F38B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7639A-0CCA-4EE8-BD8E-C24987B1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E9FE-E3AF-4608-A8AE-27155322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BD6-4252-4E7B-BF42-72A88E74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E315-D112-4030-BAA2-89F4FC42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18EE-9F60-45C8-A3E1-9EF44AD5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BAFC-F985-4C55-B5AA-E664B3A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FA550-D386-4270-9DD9-42CD6A5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130C-C865-40DB-A51A-C97B153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FD4BE-0C7F-4BFC-9C19-C939469D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5BD98-F761-4CF2-9A43-5DE8C9A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917A-159D-4438-83FF-1BF214E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A77D-4B16-493E-A25C-D66181F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66E7B-5CAB-45AE-BF6D-A864FB2F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043-8AC5-4816-9A10-55A14B6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B9D9-E934-4FE0-9BDA-D3A8013E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10CE-9FFB-4C96-A426-5674D705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FD56-C2B3-4D00-8936-07804518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A84-270F-45BD-A997-4BDF487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C0F-8068-486D-B111-87869B6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88F4-0177-42F3-B1A5-0CCFFE4457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4DA3-0FFC-4722-99B7-3F5F02E07F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AFDC-64C8-43A6-B944-FF89787AD9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6CB-DBCB-44CE-A172-C1D411A02C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6716-FA06-4896-80DA-40A08A9A07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4CE-17DD-445A-B93F-DFC6513AA5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2;&#1080;&#1088;%20&#1080;&#1085;&#1092;&#1086;&#1088;&#1084;&#1072;&#1090;&#1080;&#1082;&#1080;.ppt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34.xm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837720"/>
            <a:ext cx="7848720" cy="238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lvl="1" marL="4572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игр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итаемый остров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10" descr="kr2.gif"/>
          <p:cNvPicPr/>
          <p:nvPr/>
        </p:nvPicPr>
        <p:blipFill>
          <a:blip r:embed="rId1"/>
          <a:stretch/>
        </p:blipFill>
        <p:spPr>
          <a:xfrm>
            <a:off x="3486240" y="3290760"/>
            <a:ext cx="2209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485640"/>
            <a:ext cx="8096400" cy="61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590400" y="1333440"/>
            <a:ext cx="79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Булавка, ножницы, утю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0" descr="j0283740"/>
          <p:cNvPicPr/>
          <p:nvPr/>
        </p:nvPicPr>
        <p:blipFill>
          <a:blip r:embed="rId2"/>
          <a:stretch/>
        </p:blipFill>
        <p:spPr>
          <a:xfrm flipH="1">
            <a:off x="577800" y="628560"/>
            <a:ext cx="11923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33520" y="571320"/>
            <a:ext cx="8115120" cy="780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0000"/>
          </a:bodyPr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безопасности при работе с нож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7696080" y="59436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571680" y="1836720"/>
            <a:ext cx="788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2120" y="71388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22000"/>
          </a:bodyPr>
          <a:p>
            <a:pPr marL="57960" indent="-57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 передают ручкой вперё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столе лежит с правой стороны остриём ввер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ранят в сухом, опредёленном мес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09120" y="549000"/>
            <a:ext cx="8077320" cy="487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ь плодовые овощные раст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753320" y="600084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:\06493.gif"/>
          <p:cNvPicPr/>
          <p:nvPr/>
        </p:nvPicPr>
        <p:blipFill>
          <a:blip r:embed="rId2"/>
          <a:stretch/>
        </p:blipFill>
        <p:spPr>
          <a:xfrm>
            <a:off x="5924520" y="3581280"/>
            <a:ext cx="19335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33520" y="404640"/>
            <a:ext cx="8153280" cy="4205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Помидор, огурец, кабачок, тыква, перец, баклажан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33520" y="704520"/>
            <a:ext cx="8324640" cy="45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ь луковичные овощные раст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7791480" y="59245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52240" y="259920"/>
            <a:ext cx="8134200" cy="3606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Чеснок, лу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E:\an5.gif"/>
          <p:cNvPicPr/>
          <p:nvPr/>
        </p:nvPicPr>
        <p:blipFill>
          <a:blip r:embed="rId2"/>
          <a:stretch/>
        </p:blipFill>
        <p:spPr>
          <a:xfrm>
            <a:off x="833400" y="3822840"/>
            <a:ext cx="175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6480" y="41112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3560" y="2131920"/>
            <a:ext cx="8226720" cy="3640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 этот овощ говорят, что он витамин  рост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39200" y="5924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E:\s25491.jpg"/>
          <p:cNvPicPr/>
          <p:nvPr/>
        </p:nvPicPr>
        <p:blipFill>
          <a:blip r:embed="rId2"/>
          <a:stretch/>
        </p:blipFill>
        <p:spPr>
          <a:xfrm>
            <a:off x="652320" y="609480"/>
            <a:ext cx="10051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2360" y="620280"/>
            <a:ext cx="818352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5400" y="2170080"/>
            <a:ext cx="8226360" cy="147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0d0"/>
                </a:solidFill>
                <a:latin typeface="Verdana"/>
              </a:rPr>
              <a:t>Морковь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E:\Photo 274.gif"/>
          <p:cNvPicPr/>
          <p:nvPr/>
        </p:nvPicPr>
        <p:blipFill>
          <a:blip r:embed="rId2"/>
          <a:stretch/>
        </p:blipFill>
        <p:spPr>
          <a:xfrm>
            <a:off x="2228760" y="3828960"/>
            <a:ext cx="1805040" cy="1776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E:\Photo 274.gif"/>
          <p:cNvPicPr/>
          <p:nvPr/>
        </p:nvPicPr>
        <p:blipFill>
          <a:blip r:embed="rId3"/>
          <a:stretch/>
        </p:blipFill>
        <p:spPr>
          <a:xfrm>
            <a:off x="5010120" y="3798720"/>
            <a:ext cx="17146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14080" y="933120"/>
            <a:ext cx="817236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е продукты переработки моло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715160" y="59817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320" y="533160"/>
            <a:ext cx="8226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атегори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47640" y="1403280"/>
          <a:ext cx="7888320" cy="3619440"/>
        </p:xfrm>
        <a:graphic>
          <a:graphicData uri="http://schemas.openxmlformats.org/drawingml/2006/table">
            <a:tbl>
              <a:tblPr/>
              <a:tblGrid>
                <a:gridCol w="4076640"/>
                <a:gridCol w="762120"/>
                <a:gridCol w="781200"/>
                <a:gridCol w="799920"/>
                <a:gridCol w="704880"/>
                <a:gridCol w="763560"/>
              </a:tblGrid>
              <a:tr h="6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авил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доровое п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0d0"/>
                          </a:solidFill>
                          <a:latin typeface="Times New Roman"/>
                          <a:ea typeface="Times New Roman"/>
                        </a:rPr>
                        <a:t>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Жили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761760"/>
            <a:ext cx="8153280" cy="536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Сметана, творог, сыворотка, йогурт, ряженка, снеж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52240" y="533520"/>
            <a:ext cx="8134200" cy="506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Выберите полезные продук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ока-кола, чупа-чупс, молоко, яблоко, чипсы, морковь, кириешки, творог, мяс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58280" y="59626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14080" y="723600"/>
            <a:ext cx="8172360" cy="476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Молоко, яблоко, морковь, творог, мяс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571680" y="304920"/>
            <a:ext cx="811512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е растение может служить зонтик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77000" y="59817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думай"/>
          <p:cNvPicPr/>
          <p:nvPr/>
        </p:nvPicPr>
        <p:blipFill>
          <a:blip r:embed="rId2"/>
          <a:stretch/>
        </p:blipFill>
        <p:spPr>
          <a:xfrm>
            <a:off x="3989520" y="3154320"/>
            <a:ext cx="180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75920" y="404280"/>
            <a:ext cx="821052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Лопу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E:\1.jpg"/>
          <p:cNvPicPr/>
          <p:nvPr/>
        </p:nvPicPr>
        <p:blipFill>
          <a:blip r:embed="rId2"/>
          <a:stretch/>
        </p:blipFill>
        <p:spPr>
          <a:xfrm>
            <a:off x="4095720" y="4210200"/>
            <a:ext cx="13874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95360" y="333360"/>
            <a:ext cx="8191440" cy="4486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ль одежды, которую мы одеваем для работы в огороде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620120" y="600084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28560" y="666720"/>
            <a:ext cx="8096400" cy="78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48000"/>
          </a:bodyPr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боч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95360" y="404280"/>
            <a:ext cx="819144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цветок овоща корнеплода, служил украшением придворных дам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620120" y="59817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deti2"/>
          <p:cNvPicPr/>
          <p:nvPr/>
        </p:nvPicPr>
        <p:blipFill>
          <a:blip r:embed="rId2"/>
          <a:stretch/>
        </p:blipFill>
        <p:spPr>
          <a:xfrm>
            <a:off x="3340080" y="3475080"/>
            <a:ext cx="270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75920" y="692280"/>
            <a:ext cx="8210520" cy="38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артоф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E:\Лариса\Мои документы\Анимашки\Анимация\an1_stopkaknig.gif"/>
          <p:cNvPicPr/>
          <p:nvPr/>
        </p:nvPicPr>
        <p:blipFill>
          <a:blip r:embed="rId2"/>
          <a:stretch/>
        </p:blipFill>
        <p:spPr>
          <a:xfrm>
            <a:off x="3867120" y="4765680"/>
            <a:ext cx="19875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0"/>
          <p:cNvSpPr/>
          <p:nvPr/>
        </p:nvSpPr>
        <p:spPr>
          <a:xfrm>
            <a:off x="2747880" y="6444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438120" y="1773360"/>
            <a:ext cx="8267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какого растения изготавливают «тряпичные» ме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7658280" y="603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сказать правила Т/Б при работе с граблями</a:t>
            </a:r>
            <a:r>
              <a:rPr b="1" lang="ru-RU" sz="4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4">
            <a:hlinkClick r:id="rId1"/>
          </p:cNvPr>
          <p:cNvSpPr/>
          <p:nvPr/>
        </p:nvSpPr>
        <p:spPr>
          <a:xfrm>
            <a:off x="7689960" y="5954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0" descr="c01eff3bfb733180fd4e039cb7d1fddb.gif"/>
          <p:cNvPicPr/>
          <p:nvPr/>
        </p:nvPicPr>
        <p:blipFill>
          <a:blip r:embed="rId3"/>
          <a:stretch/>
        </p:blipFill>
        <p:spPr>
          <a:xfrm>
            <a:off x="4148280" y="3803760"/>
            <a:ext cx="900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99600" y="259920"/>
            <a:ext cx="8286840" cy="5870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577880" y="19782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Arial"/>
              </a:rPr>
              <a:t>Лё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14080" y="620640"/>
            <a:ext cx="8172360" cy="5510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824040" y="148428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одежда, которую одеваем для работы в  мастерс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7620120" y="60199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52240" y="549000"/>
            <a:ext cx="8134200" cy="425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647640" y="1619280"/>
            <a:ext cx="78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Спецодеж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>
            <a:hlinkClick r:id="rId1"/>
          </p:cNvPr>
          <p:cNvSpPr/>
          <p:nvPr/>
        </p:nvSpPr>
        <p:spPr>
          <a:xfrm>
            <a:off x="785880" y="2293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 называется  помещение, где живут, порося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>
            <a:hlinkClick r:id="rId2"/>
          </p:cNvPr>
          <p:cNvSpPr/>
          <p:nvPr/>
        </p:nvSpPr>
        <p:spPr>
          <a:xfrm>
            <a:off x="2819520" y="628560"/>
            <a:ext cx="41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-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 АУКЦ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7734240" y="603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E:\142548_1.jpg"/>
          <p:cNvPicPr/>
          <p:nvPr/>
        </p:nvPicPr>
        <p:blipFill>
          <a:blip r:embed="rId4"/>
          <a:stretch/>
        </p:blipFill>
        <p:spPr>
          <a:xfrm>
            <a:off x="3689280" y="3613320"/>
            <a:ext cx="20448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733400"/>
            <a:ext cx="8039160" cy="390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Свиноферм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9600" y="563040"/>
            <a:ext cx="8183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190240"/>
            <a:ext cx="8139240" cy="375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 помещение, где находится  много коров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7597800" y="59626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E:\buk_o.gif"/>
          <p:cNvPicPr/>
          <p:nvPr/>
        </p:nvPicPr>
        <p:blipFill>
          <a:blip r:embed="rId2"/>
          <a:stretch/>
        </p:blipFill>
        <p:spPr>
          <a:xfrm>
            <a:off x="709560" y="700200"/>
            <a:ext cx="987480" cy="957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E:\buk_a.gif"/>
          <p:cNvPicPr/>
          <p:nvPr/>
        </p:nvPicPr>
        <p:blipFill>
          <a:blip r:embed="rId3"/>
          <a:stretch/>
        </p:blipFill>
        <p:spPr>
          <a:xfrm>
            <a:off x="7429680" y="627120"/>
            <a:ext cx="1028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1440" y="71568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34760" y="1790280"/>
            <a:ext cx="7769160" cy="131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оровник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9f4c7997cd1195b82c39bba72c7e0bbd"/>
          <p:cNvPicPr/>
          <p:nvPr/>
        </p:nvPicPr>
        <p:blipFill>
          <a:blip r:embed="rId2"/>
          <a:stretch/>
        </p:blipFill>
        <p:spPr>
          <a:xfrm>
            <a:off x="3633840" y="2685960"/>
            <a:ext cx="22446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72600"/>
            <a:ext cx="843912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5360" y="1981080"/>
            <a:ext cx="8191440" cy="372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помещение, где хранятся овощ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7658280" y="603900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E:\risunok.jpg"/>
          <p:cNvPicPr/>
          <p:nvPr/>
        </p:nvPicPr>
        <p:blipFill>
          <a:blip r:embed="rId2"/>
          <a:stretch/>
        </p:blipFill>
        <p:spPr>
          <a:xfrm>
            <a:off x="6343560" y="684360"/>
            <a:ext cx="211464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84200" y="54468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53760" y="1665360"/>
            <a:ext cx="7770600" cy="3954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Овощехранилищ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4" descr="603.gif"/>
          <p:cNvPicPr/>
          <p:nvPr/>
        </p:nvPicPr>
        <p:blipFill>
          <a:blip r:embed="rId2"/>
          <a:stretch/>
        </p:blipFill>
        <p:spPr>
          <a:xfrm>
            <a:off x="6305400" y="905040"/>
            <a:ext cx="196704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7960" y="677520"/>
            <a:ext cx="81838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18680" y="2066400"/>
            <a:ext cx="8139240" cy="303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помещение, где хранят зерно зимой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658280" y="598176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61440" y="333000"/>
            <a:ext cx="8534520" cy="579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50"/>
                </a:solidFill>
                <a:latin typeface="Verdana"/>
              </a:rPr>
              <a:t>ОТВЕ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Проверяем исправность инструмента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Переносим зубьями  вниз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3. После окончания работы храним в определённом мест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60520" y="639720"/>
            <a:ext cx="81835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28240" y="1599840"/>
            <a:ext cx="8420040" cy="438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Зерносклад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7709040" y="60390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7760" y="2021040"/>
            <a:ext cx="817236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ледовательность уборки кварти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Рисунок 7" descr="cdolls118.gif"/>
          <p:cNvPicPr/>
          <p:nvPr/>
        </p:nvPicPr>
        <p:blipFill>
          <a:blip r:embed="rId2"/>
          <a:stretch/>
        </p:blipFill>
        <p:spPr>
          <a:xfrm>
            <a:off x="2629080" y="3987720"/>
            <a:ext cx="3714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Удаление пыли с  мебе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Мытье комнатных раст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Влажная уборка (мытье пол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тур. «Собери рюкзак в похо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6"/>
          <p:cNvSpPr/>
          <p:nvPr/>
        </p:nvSpPr>
        <p:spPr>
          <a:xfrm>
            <a:off x="457200" y="723960"/>
            <a:ext cx="82868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Игра закончен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дравляем победителей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5" descr="0_195db_6e22cfec_XS.gif"/>
          <p:cNvPicPr/>
          <p:nvPr/>
        </p:nvPicPr>
        <p:blipFill>
          <a:blip r:embed="rId1"/>
          <a:stretch/>
        </p:blipFill>
        <p:spPr>
          <a:xfrm>
            <a:off x="3638520" y="4476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640"/>
            <a:ext cx="8229600" cy="5405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Техника безопасности при работе ножниц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658280" y="60199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" descr="E:\Photo 658.gif"/>
          <p:cNvPicPr/>
          <p:nvPr/>
        </p:nvPicPr>
        <p:blipFill>
          <a:blip r:embed="rId2"/>
          <a:stretch/>
        </p:blipFill>
        <p:spPr>
          <a:xfrm>
            <a:off x="1057320" y="4505400"/>
            <a:ext cx="140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33520" y="33336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ницы передают  кольцами вперёд, в закрытом вид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столе лежат справой стороны остриём ввер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ранят в сухом, опредёленном мес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3" descr="E:\59dfc10c2b12.gif"/>
          <p:cNvPicPr/>
          <p:nvPr/>
        </p:nvPicPr>
        <p:blipFill>
          <a:blip r:embed="rId2"/>
          <a:stretch/>
        </p:blipFill>
        <p:spPr>
          <a:xfrm>
            <a:off x="5972040" y="331488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00280" y="533520"/>
            <a:ext cx="7772400" cy="5192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ёрсток применяется дл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крас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доб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защи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укра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658280" y="596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47640" y="5144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95360" y="219060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8" descr="смс"/>
          <p:cNvPicPr/>
          <p:nvPr/>
        </p:nvPicPr>
        <p:blipFill>
          <a:blip r:embed="rId2"/>
          <a:stretch/>
        </p:blipFill>
        <p:spPr>
          <a:xfrm>
            <a:off x="434880" y="517680"/>
            <a:ext cx="195912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28560" y="404640"/>
            <a:ext cx="8058240" cy="27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8000"/>
          </a:bodyPr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йдите лишне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чими органами швейной машины являются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гл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лно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улав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ниц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жимн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п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тюг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ховое колес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E:\school.jpg"/>
          <p:cNvPicPr/>
          <p:nvPr/>
        </p:nvPicPr>
        <p:blipFill>
          <a:blip r:embed="rId2"/>
          <a:stretch/>
        </p:blipFill>
        <p:spPr>
          <a:xfrm>
            <a:off x="7153200" y="3543480"/>
            <a:ext cx="12096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9:57Z</dcterms:created>
  <dc:creator>Стефанова</dc:creator>
  <dc:description/>
  <dc:language>en-US</dc:language>
  <cp:lastModifiedBy>Окороков А В</cp:lastModifiedBy>
  <dcterms:modified xsi:type="dcterms:W3CDTF">2013-11-08T08:18:32Z</dcterms:modified>
  <cp:revision>223</cp:revision>
  <dc:subject/>
  <dc:title> Мир информатики</dc:title>
</cp:coreProperties>
</file>