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4F6-F784-4FA0-A38E-5CAA6282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0D7-DF9B-4E41-805B-EA061B90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EE9-3F53-4319-BD54-211D9A4C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A7E-DE2B-48CC-A13C-CBAD2558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B045-1CBE-4719-8D30-73557FF7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D3A3-D197-4BDA-9BDC-EB8723E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9652-C048-4B84-8B14-59082FAF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52DD-40E3-4BAB-AB29-45D60451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A8EF-9697-46D0-A85C-C693017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71E-EC65-4555-92FC-D51701A7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E62-9571-4CF6-BD78-121B63A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670-2E5C-4C95-973B-07596C35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23C-F269-4468-A4FC-2CCDE5D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DFAB-CA05-44D1-BED4-F55BBB5A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2C2B-F495-4CCE-AD23-1148FC1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C53F-565C-4BDF-97CD-91AE936C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8AA5-7757-4642-A6BE-A329083E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F0B-99B9-49A9-B10C-21C6CF33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576-779F-4BE8-92CC-F58D0B84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B4A-A72C-4157-A6C3-915795FA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B64-FA1D-4F88-ACFD-2F024AF0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DE7-90A0-4483-951B-262F8F28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37D-DD77-4F70-9ACC-88E008C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FED-F05E-41A1-9ACB-D7412FD2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F8DB-862F-4A80-BA4E-90D8864EC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8E8F-6005-4957-B947-B58021604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62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ак не погибнуть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 лесу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Практические сове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СБО  Логинова Л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ведение кост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Используйте в качестве топлива высохшие деревья и ве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В мокрую погоду сухое топливо можно найти под стволами поваленных деревьев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качестве топлива можно использовать сухие травы, а иногда даже уголь, или торф, которые могут находиться на поверхности поч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Также могут быть использованы и некоторые растения, но, ни в коем случае не ядовиты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ля разведения огня можн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спользоваться тем, что быстро зажигается, к примеру, маленькие бруски сухого дерева, еловы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шишки, кора деревьев, хворостинки, засохшие еловые иглы, тра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же в дождь смола еловых шишек или сухие пни быстро загорятс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ухая кора березы также содержит смолистые вещества, которые быстро загораются. Для разжигания огня пользуются сухими веточками, которые обстругивают так, чтобы стружка оставалась на них в виде«воротничка». Поверх укладывают тонкие щепочки, расщепленную сухую кору (лучше березовую), высохший мо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авильно поддерживайте огон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пливо в костер добавляют понемногу. По мере увеличения пламен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жно класть более крупные ветви. Укладывать их надо по одно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плотно, чтобы обеспечить хороший доступ воздуха. Если забыть об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м, даже жарко горящий костер может «задохнуться». Защитите огонь от ветра при помощи щита (ветролома) или отражателя, который направит тепло в необходимом направлении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Используйте свежесрубленные бревна или торец толстого гнилого бревна, чтобы огонь горел медленно. Защищайте красные огоньки от ветра. Покрывайте их пеплом и сверху слоем почвы. Таким образом, вам легче будет поддерживать огонь, чем разводить его заново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ленький огонь легче разводить и контролировать, чем большо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сколько маленьких костров, разведенных в холодную погоду вокруг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с, дадут больше тепла, чем большой костер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костров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риготовления пищи и просушивания одежды наиболее удобен костер «шалаш», дающий большое, ровное пламя, или «звездный» из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–8 расположенных звездообразно сухих стволов. Их поджигают 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тре и сдвигают по мере сгорания. Для обогрева во время ночлег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в холодную погоду на толстый ствол веером укладываю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–4 стволика потоньше. Такой костер называется таежны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Для обогрева в течение продолжительного времени пользуются костром нодьей. Два сухих ствола укладывают один на другой и закрепляют п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цам с обеих сторон кольями. Между стволами вставляют клинья и 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свет закладывают растопку. По мере обгорания древесины пепел 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лу время от времени очищаю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*Уходя с места стоянки, тлеющие угли необходимо тщательно загасит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лив их водой или забросав земле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ведение огня без спичек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жде чем попробовать зажечь огонь без спичек, приготовьте несколько сухих легковоспламеняющихся материалов. Затем укройте их от ветра и влаги. Хорошими веществами могут быть гниль, лоскутики одежды, веревка или бечевка, деревянные стружки и опилки, птичьи перья, шерстистые ворсинки растений и другие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ъектив фотоаппарата, выпуклая линза от бинокля или телескопа, наконец, зеркало могут быть использованы для фокусирования солнечных лучей на легковоспламеняющиеся веще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дообеспечение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утствие воды в течение суток отрицательно сказывается на моральном состоянии человека, снижает его боеспособность, волевые качества, вызывает быструю утомляемость. При ограниченных запасах воды, организм теряет с потом много жидкости и обезвоживается, очень важно снизить потоотделение. Этого можно достигнуть, защитив себя от прямой солнечной радиации с помощью простейшего солнцезащитного тента, ограничив физическую нагрузку в жаркое время суток, увлажняя одежду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ждевая вода,роса,источни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Чтобы собрать дождевую воду выкопайте ямку 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ложите ее большими листьями, чтобы собранная вода не впиталась в землю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са. Когда идет дождь, обвяжите тканью дерево. Вода, стекающая вдоль ствола, будет задерживаться, и капать в емкость, поставленну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изу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а из природных источников. Перед употреблением воды из реки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учья и т.д. ее необходимо (по возможности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скипятить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дообеспечение.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растения постоянно испаряют хотя бы небольшое количество воды, ее можно уловить с помощью обыкновенного мешочка из полиэтилена. Мешочек надевается на куст, ветку дерева 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язывается у основания. Вода, испаряемая растением, оседает в виде капель на внутренней поверхности полиэтилена, которыескапливаются в нижней части пак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час в зависимости отвеличины растения можно собрать до 50–80 мл воды. Важно, что этот способ практически не требует никаких физических усил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утешественник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блюдайте  правила безопасности и  путешествие всегда будет прият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ктические со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д выходом в лес предупредите родных, куда идет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 в сумке, а в кармане всегда имейте нож, спички в сухой коробочке и часы — они помогут и не паниковать, и ориентироваться, как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 компасу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евайтесь ярко — рыжие, красные, желтые, белые куртки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хорошо наклеить светоотражающие полоски или рисунки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168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1120" y="1298520"/>
            <a:ext cx="788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Старайтесь не уходить далеко от знакомого маршрута, не «среза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ол» по незнакомой местности, особенно по болот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Если потерялся ваш родственник, сразу же вызывайте спасате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едко самостоятельные поиски приводят только к затаптыванию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ов, по которым можно было отыскать человек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Если вы пытаетесь, например, докричаться или догудеться (сигнало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машины) до потерявшегося, ждите его на одном месте достаточн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го. Иногда найденные люди рассказывают, что шли на сигнал, но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йдя, обнаруживали, что машина только что уехала, не прождав их 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надцати минут. А ведь выбежать из леса быстро довольн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и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851840"/>
            <a:ext cx="934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льзя забывать и о том, что поход в лес — это сильны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изические нагрузк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Если у вас есть еще какие-то хронические заболевания, то они могут обостряться, поэтому без необходимых медикаментов в лес идти нельзя. И, конечно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ужно иметь при себе хотя бы минимальный запас воды, чтобы в случае необходимости можно было запить лекарств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то делать, если вы заблудились в лес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Для того чтобы, будучи в одиночестве в лесу, остаться в живых, прежд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го, крепко обнять дерево и успокоитьс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Если есть возможность, немедленно свяжитесь со специалистами Едино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ужбы спасения по телефону: 112 или 01 (звонок бесплатный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ли точно знаете, что вас будут искать — оставайтесь н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сте, разведите костер, пойте песни — по дыму и голосу найт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ловека легко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38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лезные со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Собираясь ночевать, сделайте постель из лапника, костер желательн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держивать всю ночь — для этого киньте туда пару толстых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ток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Если ищете дорогу сами — старайтесь не петлять, ориентируйтесь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солнцу, хорошо, если удалось выйти на линию электропередач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елезную дорогу, газопровод, реку — идя вдоль этих объектов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гда выйдете к людям, пусть и не там, где предполагал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Подавать звуковые сигналы можно ударами палки о деревья, звук о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их далеко расходится по лесу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При необходимости движения можно ориентироваться по сторонам свет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аже без компаса. Так, кора березы и сосны на северной сторон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нее, чем на южной, а стволы деревьев, камни, выступы скал гущ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ыты мхом и лишайниками. Смоляные капли на стволах хвойных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ревьев выделяются с северной стороны менее обильно, чем с южно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 эти признаки бывают отчетливо выражены у отдельно стоящег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рева на поляне или опушк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Если необходимо организовать временную стоянку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оянку  нужно сделат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сухом мест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троить убежище из подручных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материал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развест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стер, пополнить запасы пищи из кладовой природы и ожидать прихода помощ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оложиться лучше всего поблизости от ручья или речушк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открытом месте, чтобы всегда иметь под рукой запас воды. Кром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го, прохладный ветерок, постоянно дующий в ночные часы, буде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учшей защитой от нападения полчищ гнуса, чем дымокурные костр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ременным укрытием может служить навес, шалаш, землянка. В тепло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ремя года можно ограничиться постройкой простейшего навес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http://www.telpics.ru/cache/landscape/telpics_ru_873300170_64x64.jpg"/>
          <p:cNvPicPr/>
          <p:nvPr/>
        </p:nvPicPr>
        <p:blipFill>
          <a:blip r:embed="rId1"/>
          <a:stretch/>
        </p:blipFill>
        <p:spPr>
          <a:xfrm>
            <a:off x="684360" y="2205000"/>
            <a:ext cx="3743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делайте себя видимы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Прежде всего, необходимо найти открыто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есто, лучше на возвышении, соорудить на ближайшей же полянк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и высоких (метра три) креста из еловых сучьев. Если есть спички, можно разжечь три костра, или пяткой проделать в земле три глубокие бороздки,  или сложить три каменные кучки вблизи тропы, поскольку спасатели, как правило, идут по н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ним словом, устанавливать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ие знаки, каких в обычной природе не существует, и, которы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гут быть видны с вертолета. Можно, к примеру, повесить на елку украшения из мусора (бутылки, банки, пакетики от чипсов 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.п.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ведение огн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жде чем разводить огонь, следует принять все меры дл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дупреждения лесного пожара. Это особенно важно в сухое, жарко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ремя года. Место для костра выбирают в стороне от хвойных, и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собенно высохших деревьев. Тщательно очищают пространство н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етр-полтора вокруг от сухой травы, мха и кустарника. Если почв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орфяниста, то, чтобы огонь не проник сквозь травяной покров и н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звал возгорания торфа, насыпают «подушку» из песка или земли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имой при высоком снежном покрове снег тщательно утаптывают, 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атем сооружают помост из нескольких стволов деревьев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пользуйте в качестве топлива высохшие деревья и ветки. В мокрую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огоду сухое топливо можно найти под стволами поваленных деревьев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 качестве топлива можно использовать сухие травы, а иногда даж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голь, или торф, которые могут находиться на поверхности почвы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акже могут быть использованы и некоторые растения, но, ни в коем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лучае не ядовиты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5:06:31Z</dcterms:created>
  <dc:creator>Admin</dc:creator>
  <dc:description/>
  <dc:language>en-US</dc:language>
  <cp:lastModifiedBy>Окороков А В</cp:lastModifiedBy>
  <dcterms:modified xsi:type="dcterms:W3CDTF">2013-11-08T03:55:12Z</dcterms:modified>
  <cp:revision>6</cp:revision>
  <dc:subject/>
  <dc:title>Как не погибнуть в лесу ?</dc:title>
</cp:coreProperties>
</file>