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126-3A39-47C9-B042-0AC98B07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8B9-7ACA-466E-A572-9B21127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344-BDDE-4AE3-905C-F3DE793C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ECD-AC77-4F38-AB09-4FE563E0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0D5-E3C4-400D-885C-DDB882D7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9E9-B856-4DFB-83F1-E6A4D1C0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F9C-FC9A-4186-AA29-819B8723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8E5-B4D2-49B4-8164-A1A0C4A0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0F4-EC76-41FB-BCD3-7D6E1CEB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40A-A71A-42AB-8372-9B40686D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23E-2776-4070-AE61-FE1B1593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C54-C4CF-405A-B08C-4BACAF3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12F6-7BAF-4F3D-9F3F-C524BB686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Зона сте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фон3.jp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Ирисы, </a:t>
            </a: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авол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zapoved-kursk.ru/assets/images/rasteniya/step-4.jpg"/>
          <p:cNvPicPr/>
          <p:nvPr/>
        </p:nvPicPr>
        <p:blipFill>
          <a:blip r:embed="rId2"/>
          <a:stretch/>
        </p:blipFill>
        <p:spPr>
          <a:xfrm>
            <a:off x="179280" y="1268280"/>
            <a:ext cx="4824360" cy="53434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tavolga.jpg"/>
          <p:cNvPicPr/>
          <p:nvPr/>
        </p:nvPicPr>
        <p:blipFill>
          <a:blip r:embed="rId3"/>
          <a:stretch/>
        </p:blipFill>
        <p:spPr>
          <a:xfrm>
            <a:off x="5327640" y="1609560"/>
            <a:ext cx="381636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Ири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1.bp.blogspot.com/-6QnwJv4zPro/UuYpPH3I9sI/AAAAAAAAAx0/Mp2Ya07XFec/s1600/0014-014-Rastitelnyj-mir-stepej.jpg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Степной шалфей"/>
          <p:cNvPicPr/>
          <p:nvPr/>
        </p:nvPicPr>
        <p:blipFill>
          <a:blip r:embed="rId3"/>
          <a:stretch/>
        </p:blipFill>
        <p:spPr>
          <a:xfrm>
            <a:off x="6227640" y="-171360"/>
            <a:ext cx="291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47640" y="333360"/>
            <a:ext cx="45007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Корневая сист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bukvi.ru/wp-content/uploads/2014/08/081514_1522_1.png"/>
          <p:cNvPicPr/>
          <p:nvPr/>
        </p:nvPicPr>
        <p:blipFill>
          <a:blip r:embed="rId2"/>
          <a:stretch/>
        </p:blipFill>
        <p:spPr>
          <a:xfrm>
            <a:off x="684360" y="1341360"/>
            <a:ext cx="813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5592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3" descr="растения.bmp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78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6337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 растения приспособлены для жизни в степя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071720" y="2000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539640" y="191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дни растения луковичные(именно луковица даёт запас питательных веще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2276640" y="4869000"/>
            <a:ext cx="45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ругие имеют сильную корнев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images.jpg"/>
          <p:cNvPicPr/>
          <p:nvPr/>
        </p:nvPicPr>
        <p:blipFill>
          <a:blip r:embed="rId2"/>
          <a:srcRect l="0" t="0" r="0" b="21922"/>
          <a:stretch/>
        </p:blipFill>
        <p:spPr>
          <a:xfrm>
            <a:off x="7020000" y="3933720"/>
            <a:ext cx="1665360" cy="3438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000143.gif"/>
          <p:cNvPicPr/>
          <p:nvPr/>
        </p:nvPicPr>
        <p:blipFill>
          <a:blip r:embed="rId3"/>
          <a:stretch/>
        </p:blipFill>
        <p:spPr>
          <a:xfrm>
            <a:off x="5724360" y="1413000"/>
            <a:ext cx="14702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71760" y="285840"/>
            <a:ext cx="63849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Растения сухих степ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073520" y="2000160"/>
            <a:ext cx="2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http://www.syl.ru/misc/i/ai/171710/655015.jpg"/>
          <p:cNvPicPr/>
          <p:nvPr/>
        </p:nvPicPr>
        <p:blipFill>
          <a:blip r:embed="rId2"/>
          <a:stretch/>
        </p:blipFill>
        <p:spPr>
          <a:xfrm>
            <a:off x="250920" y="1052640"/>
            <a:ext cx="364788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http://collectedpapers.com.ua/wp-content/uploads/2014/01/044.jpg"/>
          <p:cNvPicPr/>
          <p:nvPr/>
        </p:nvPicPr>
        <p:blipFill>
          <a:blip r:embed="rId3"/>
          <a:stretch/>
        </p:blipFill>
        <p:spPr>
          <a:xfrm>
            <a:off x="4067280" y="907920"/>
            <a:ext cx="4825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аспахивание степных земел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03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1071720" y="2000160"/>
            <a:ext cx="9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www.lesovod.org.ua/sites/default/files/images/10786_0.jpg"/>
          <p:cNvPicPr/>
          <p:nvPr/>
        </p:nvPicPr>
        <p:blipFill>
          <a:blip r:embed="rId2"/>
          <a:stretch/>
        </p:blipFill>
        <p:spPr>
          <a:xfrm>
            <a:off x="395280" y="260280"/>
            <a:ext cx="403236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4" name="Picture 4" descr="http://d3mlntcv38ck9k.cloudfront.net/content/konspekt_image/34363/df421f0066ff858914d2f37e3f8de514.jpg"/>
          <p:cNvPicPr/>
          <p:nvPr/>
        </p:nvPicPr>
        <p:blipFill>
          <a:blip r:embed="rId3"/>
          <a:stretch/>
        </p:blipFill>
        <p:spPr>
          <a:xfrm>
            <a:off x="4572000" y="333360"/>
            <a:ext cx="4254480" cy="35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orenobl.ru/images/metik/celina.jpg"/>
          <p:cNvPicPr/>
          <p:nvPr/>
        </p:nvPicPr>
        <p:blipFill>
          <a:blip r:embed="rId4"/>
          <a:stretch/>
        </p:blipFill>
        <p:spPr>
          <a:xfrm>
            <a:off x="4356000" y="4076640"/>
            <a:ext cx="446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аспахивание степных земел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03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511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4281007_1225009997_800pxCattle_and_sheep"/>
          <p:cNvPicPr/>
          <p:nvPr/>
        </p:nvPicPr>
        <p:blipFill>
          <a:blip r:embed="rId3"/>
          <a:stretch/>
        </p:blipFill>
        <p:spPr>
          <a:xfrm>
            <a:off x="395280" y="1268280"/>
            <a:ext cx="835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071720" y="2000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773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Мы хозяева нашей природы. Для рыбы нужна чистая вода - будем охранять наши водоемы. В лесах, степях, горах разные ценные животные - будем охранять наши леса, степи, горы. Рыбе - вода, птице - воздух, зверю - лес, степь, горы. А человеку нужна Родина. И охранять природу - значит охранять Род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971640" y="404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а из рассказа «Моя Родин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Текст 2" descr=""/>
          <p:cNvPicPr/>
          <p:nvPr/>
        </p:nvPicPr>
        <p:blipFill>
          <a:blip r:embed="rId2"/>
          <a:stretch/>
        </p:blipFill>
        <p:spPr>
          <a:xfrm>
            <a:off x="536400" y="281160"/>
            <a:ext cx="7425000" cy="20840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324000" y="2627280"/>
            <a:ext cx="74977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oversteppe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79280" y="189000"/>
            <a:ext cx="871380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тельный мир </a:t>
            </a:r>
            <a:endParaRPr b="1" lang="en-US" sz="6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на степей</a:t>
            </a:r>
            <a:endParaRPr b="1" lang="en-US" sz="6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753120" y="2781360"/>
            <a:ext cx="79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жнее полосы лесов лежит ковёр из трав,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Степь зим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forum-invalidov.ucoz.ru/0_60483_f8e50efd_XL.jpg"/>
          <p:cNvPicPr/>
          <p:nvPr/>
        </p:nvPicPr>
        <p:blipFill>
          <a:blip r:embed="rId2"/>
          <a:stretch/>
        </p:blipFill>
        <p:spPr>
          <a:xfrm>
            <a:off x="468360" y="1052640"/>
            <a:ext cx="81360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8989"/>
                </a:solidFill>
                <a:latin typeface="Calibri"/>
              </a:rPr>
              <a:t>Лето, ос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4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19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Весна.  Чернозёмные степ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greensource.ru/images/articles/low-quality/lowq-step.jpg"/>
          <p:cNvPicPr/>
          <p:nvPr/>
        </p:nvPicPr>
        <p:blipFill>
          <a:blip r:embed="rId2"/>
          <a:stretch/>
        </p:blipFill>
        <p:spPr>
          <a:xfrm>
            <a:off x="539640" y="1268280"/>
            <a:ext cx="806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Ма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lingvostranovedcheskiy.academic.ru/pictures/lingvostranovedcheskiy/418-557_(426-565)_img_562.jpg"/>
          <p:cNvPicPr/>
          <p:nvPr/>
        </p:nvPicPr>
        <p:blipFill>
          <a:blip r:embed="rId2"/>
          <a:stretch/>
        </p:blipFill>
        <p:spPr>
          <a:xfrm>
            <a:off x="468360" y="1341360"/>
            <a:ext cx="4967280" cy="532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hozyindachi.ru/wp-content/uploads/2015/04/1-e1424094924862.jpg"/>
          <p:cNvPicPr/>
          <p:nvPr/>
        </p:nvPicPr>
        <p:blipFill>
          <a:blip r:embed="rId3"/>
          <a:stretch/>
        </p:blipFill>
        <p:spPr>
          <a:xfrm>
            <a:off x="4932360" y="2060640"/>
            <a:ext cx="47624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Тюльп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://3.bp.blogspot.com/-B7dXTW0_gHs/Vm-pRTImkzI/AAAAAAAADY4/hVYuVyoVUqs/s1600/3.jpg"/>
          <p:cNvPicPr/>
          <p:nvPr/>
        </p:nvPicPr>
        <p:blipFill>
          <a:blip r:embed="rId2"/>
          <a:stretch/>
        </p:blipFill>
        <p:spPr>
          <a:xfrm>
            <a:off x="395280" y="1341360"/>
            <a:ext cx="8280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000" y="285840"/>
            <a:ext cx="8459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Гусиный лук           Пион тонколист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900igr.net/datas/okruzhajuschij-mir/ZHivotnye-stepi/0015-015-Vesna-v-stepi.jpg"/>
          <p:cNvPicPr/>
          <p:nvPr/>
        </p:nvPicPr>
        <p:blipFill>
          <a:blip r:embed="rId2"/>
          <a:stretch/>
        </p:blipFill>
        <p:spPr>
          <a:xfrm>
            <a:off x="250920" y="1052640"/>
            <a:ext cx="4105080" cy="518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simbir-flora.narod.ru/pic/pion1.jpg"/>
          <p:cNvPicPr/>
          <p:nvPr/>
        </p:nvPicPr>
        <p:blipFill>
          <a:blip r:embed="rId3"/>
          <a:stretch/>
        </p:blipFill>
        <p:spPr>
          <a:xfrm>
            <a:off x="4788000" y="1413000"/>
            <a:ext cx="417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4:36:05Z</dcterms:created>
  <dc:creator>Админ</dc:creator>
  <dc:description/>
  <dc:language>en-US</dc:language>
  <cp:lastModifiedBy>User</cp:lastModifiedBy>
  <dcterms:modified xsi:type="dcterms:W3CDTF">2016-03-01T15:25:56Z</dcterms:modified>
  <cp:revision>70</cp:revision>
  <dc:subject/>
  <dc:title>Слайд 1</dc:title>
</cp:coreProperties>
</file>