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0D9C-1214-4D0A-9F8E-EF268FD4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831C-B1F0-4D97-B6B4-3DF44570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417D-79B5-467D-ABBF-72D8A81E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905-77E2-4606-B91E-0311D7C0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7152-3353-49C2-9816-2460312E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BA55-C53D-4FB9-8002-DEC72636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D1B7-1A1D-4B7B-B5E0-A8A445FE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07C7-0D97-41DC-A5D7-993C5911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45CF-3FB8-4017-90E7-B4E8DB44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F41C-D665-4B63-90FC-833F6A4C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F9C5-AB16-44EB-84BC-B3825375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3960-1BB7-4A89-AA6D-0A04E9A1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58E0-AA7C-415F-AE7F-8E9A7D50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D280-E85D-4261-AA40-3B864FDF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5BB4-D979-40ED-9FA3-0754D6D4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4E0D-01BB-41F8-B7C7-3DB41F9F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5B53-A41A-4DBF-A105-489A1C56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188A-28D8-4942-BB18-1D6620A1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E7F1-DE04-4D14-95B1-53E24F56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C564-C099-4DB0-ADDA-2CCA1495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C9B2-E5F0-4F7C-BEB6-0A1F226D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E08E-C457-4A64-B119-6A654B0A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A9F-F82D-40BF-83A3-06380B0E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96D-9D03-486C-97EA-A19520A2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My Documents\bits\Expbanna.png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7C84-7C5D-413E-A5BE-7C4DCF575E08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:\!Themes\Expedition\EXPHORSA.GIF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C:\My Documents\bits\Expbanna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D:\FRONTPAGE THEMES\EXPEDITN\EXPHORSA.PNG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P:\!Themes\Expedition\EXPHORSA.GIF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1E81-9F36-4033-BBCC-8C267B8537D0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066680" y="533520"/>
          <a:ext cx="7772400" cy="294480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294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ершенствование образовательной среды  для детей  с  ограниченным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можностями здоровья в процессе интеграции образования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127400" y="6122880"/>
          <a:ext cx="4988160" cy="735120"/>
        </p:xfrm>
        <a:graphic>
          <a:graphicData uri="http://schemas.openxmlformats.org/drawingml/2006/table">
            <a:tbl>
              <a:tblPr/>
              <a:tblGrid>
                <a:gridCol w="4988160"/>
              </a:tblGrid>
              <a:tr h="735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: Кондратьева.И.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1042920" y="2602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2. Обеспечение готовности учащихся к усвоению знани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826920" y="1773360"/>
            <a:ext cx="831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ивность усвоения знаний также зависит и от готовности учащихся. Различают длительную готовность и временное состояние готовности. На временное состояние готовности влияет ряд факторов. Это состояние физической среды в кабинете (состав воздуха, посторонний шум), физическое состояние учащихся (утомление предыдущей деятельностью, состояние здоровья). Для этого - проветриваю кабинет, учитываю состояние здоровья учащихся, а также учитываю каким уроком стоит проводимый урок по расписанию. Для повышения уровня мотивации стараюсь вызвать интерес учащихся к содержанию объясн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1042920" y="476280"/>
            <a:ext cx="58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3. Эффективное построение объясн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826920" y="1773360"/>
            <a:ext cx="8317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тральное место, занимает  построение сообщения учителем нового материала. Объяснение начинаю с сообщения цели теоретической части занятия. Например: «Сегодня я вам расскажу о видах зерновых культур и их свойствах». Вторую часть фразы повторяю в замедленном темпе и демонстрирую соответствующую запись темы на доске. Затем кратко указываю на необходимость усвоения таких знаний для практической работы, спрашиваю ребят: « Нужно ли нам изучать тему, пригодятся ли она вам в будущей самостоятельной жизни?» Таким образом, добиваюсь, чтобы учащиеся приняли цель, поставленную мною, т.е. совпадали цели учителя и ученика. После этого перехожу к сообщению содержания урока в форме объяснительной беседы с учащими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1476360" y="33336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4. Применение нагляд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684360" y="1628640"/>
            <a:ext cx="845964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ивность использования средств наглядности объясняется тем, что при чувственном восприятии образы изучаемого материала быстрее формируются и дольше сохраняются в памяти, чем создаваемые только на основе речевого сообщ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боте с учащимися  использую демонстрацию объектов труда, изобразительную наглядность (плакаты, чертежи, рисунки на доске, иллюстрации учебников, фотографии, схематические изображения), а также применяю практический показ приёмов работы. Целенаправленное включение средств наглядности в структуру урока позволяет мне активизировать внимание учащихся, существенно улучшать их восприятие, понимание и запоминание учебного материал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1116000" y="333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5.Применение эффективных методических приёмов концентрации внимания на учебной информ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оугольник 2"/>
          <p:cNvSpPr/>
          <p:nvPr/>
        </p:nvSpPr>
        <p:spPr>
          <a:xfrm>
            <a:off x="684360" y="1844640"/>
            <a:ext cx="845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ивным способом управления вниманием является и нестандартная форма подачи учебного материала. Для этого ввожу игровые ситуации в учебный процесс, нестандартную форму предъявления информации (например, тематические кроссворды, ребусы и.т.п). Форма выделения информации может быть самой разной: усиления голоса в нужном месте, запись важной составляющей на доске, подчёркивание в готовом тексте, показ наглядного объекта А также поддерживаю внимание учащихся постановкой проблемного вопроса или выдвижением проблемы перед началом изложения учебного материала, а затем вместе с учащимися делаю попытку её разрешения на занятии. Использую и приём, связанный с предложением учащимся высказать своё мнен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1403280" y="260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6. Осуществление группового и дифференцированного способа обуч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900000" y="177336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эффективного усвоения знаний в работе с учащимися осуществляю наряду с групповым дифференцированный способ обучения. В работе со слабыми учащимися многократно осуществляю показ практических приемов работы, сопровождая его подробным инструктажем; эффективно использую наглядность; при выполнении коррекционных упражнений на развитие восприятия, даю менее сложные задания, чем основной группе учащихся. В результате проводимой работы происходит развитие и коррекция восприятия и учащиеся способны  усваивать учебную информаци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1763640" y="476280"/>
            <a:ext cx="509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7. Контроль за усвоением зн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900000" y="1916280"/>
            <a:ext cx="82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м организационным вопросом формирования знаний, является индивидуальный контроль и учёт формирования знаний. Сведения об усвоении знаний учащимися я получаю путём устных опросов при повторении материала, при анализе опросных листов, тестовых заданий.  Применение тестов в учебном процессе позволяет  определить уровень усвоения учащимися теоретического материала, выявить пробелы в их знаниях. Кроме того, процедура тестирования в некотором роде содержит элемент игр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752480" y="0"/>
          <a:ext cx="5334120" cy="51768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  работ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295280" y="633240"/>
          <a:ext cx="7010640" cy="6224760"/>
        </p:xfrm>
        <a:graphic>
          <a:graphicData uri="http://schemas.openxmlformats.org/drawingml/2006/table">
            <a:tbl>
              <a:tblPr/>
              <a:tblGrid>
                <a:gridCol w="7010640"/>
              </a:tblGrid>
              <a:tr h="622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рошлом году выпустила группу 9 кл. все сдали экзамен (на проектной основе),  все учатся в ПТУ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всех (почти),  сформирована правильная жизненная позиция, умение действовать в соответствии с обстановко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 готовы к индивидуальной трудовой деятельност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выпускников возросла ответственность, дисциплинированность, повысился самоконтроль при выполнении работ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учив разные разделы программы \ овощеводство, растениеводство, животноводство, цветоводство\ учащиеся имеют выбор для самореализации по месту жительств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6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3"/>
          <p:cNvSpPr txBox="1"/>
          <p:nvPr/>
        </p:nvSpPr>
        <p:spPr>
          <a:xfrm>
            <a:off x="1295280" y="1676520"/>
            <a:ext cx="762012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53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Спасибо за внимани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1258920" y="2565360"/>
            <a:ext cx="7561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ью образовательного учебного стандарта специальной коррекционной школы является создание механизмов раскрытия способностей каждого ученика, воспитания порядочного и патриотичного человека, личности, готовой к жизни в высокотехнологичном, конкурентном мире. По окончанию обучения выпускники должны уметь решать задачи не укладывающиеся в рамки стереотипных решений, где знания служат главным регулятором самостоятельной трудовой деятель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716040" y="0"/>
            <a:ext cx="25905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666880" y="2666880"/>
          <a:ext cx="4876920" cy="1030320"/>
        </p:xfrm>
        <a:graphic>
          <a:graphicData uri="http://schemas.openxmlformats.org/drawingml/2006/table">
            <a:tbl>
              <a:tblPr/>
              <a:tblGrid>
                <a:gridCol w="487692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навы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знеобеспе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762120" y="304920"/>
          <a:ext cx="2743200" cy="190476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19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номическая направл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ов с\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у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733920" y="380880"/>
          <a:ext cx="2514600" cy="182880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цио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ения     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400800" y="380880"/>
          <a:ext cx="2514600" cy="160020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т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ендар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762120" y="4114800"/>
          <a:ext cx="3809880" cy="27432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остно- ориентированный подход \ формирование устойчивой мотивации\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- уче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ник- уче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- ученик- ро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562720" y="4114800"/>
          <a:ext cx="3429000" cy="20574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ая направл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79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атическое проведение практических работ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792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ение технологических кар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98" name="Line 61"/>
          <p:cNvSpPr/>
          <p:nvPr/>
        </p:nvSpPr>
        <p:spPr>
          <a:xfrm flipH="1" flipV="1">
            <a:off x="2742840" y="205704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62"/>
          <p:cNvSpPr/>
          <p:nvPr/>
        </p:nvSpPr>
        <p:spPr>
          <a:xfrm flipV="1">
            <a:off x="5029200" y="2057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63"/>
          <p:cNvSpPr/>
          <p:nvPr/>
        </p:nvSpPr>
        <p:spPr>
          <a:xfrm flipV="1">
            <a:off x="6858000" y="198072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64"/>
          <p:cNvSpPr/>
          <p:nvPr/>
        </p:nvSpPr>
        <p:spPr>
          <a:xfrm flipH="1">
            <a:off x="2895480" y="34290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66"/>
          <p:cNvSpPr/>
          <p:nvPr/>
        </p:nvSpPr>
        <p:spPr>
          <a:xfrm>
            <a:off x="6705720" y="365760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523880" y="457200"/>
          <a:ext cx="7239240" cy="1676520"/>
        </p:xfrm>
        <a:graphic>
          <a:graphicData uri="http://schemas.openxmlformats.org/drawingml/2006/table">
            <a:tbl>
              <a:tblPr/>
              <a:tblGrid>
                <a:gridCol w="7239240"/>
              </a:tblGrid>
              <a:tr h="16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 и  приемы  используемые  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ах  с\х  труда для  формир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выков  жизнеобеспече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143000" y="2514600"/>
          <a:ext cx="2057400" cy="22096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весны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струк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се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ку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581280" y="2514600"/>
          <a:ext cx="2667240" cy="3309840"/>
        </p:xfrm>
        <a:graphic>
          <a:graphicData uri="http://schemas.openxmlformats.org/drawingml/2006/table">
            <a:tbl>
              <a:tblPr/>
              <a:tblGrid>
                <a:gridCol w="2667240"/>
              </a:tblGrid>
              <a:tr h="332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глядны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ение технологичес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ты, схем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кат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туральные образцы семян, пло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553080" y="2514600"/>
          <a:ext cx="2590920" cy="287172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288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способа дей-я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ение практической работы 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107" name="Line 34"/>
          <p:cNvSpPr/>
          <p:nvPr/>
        </p:nvSpPr>
        <p:spPr>
          <a:xfrm flipH="1">
            <a:off x="2362320" y="20574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5"/>
          <p:cNvSpPr/>
          <p:nvPr/>
        </p:nvSpPr>
        <p:spPr>
          <a:xfrm>
            <a:off x="502920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6"/>
          <p:cNvSpPr/>
          <p:nvPr/>
        </p:nvSpPr>
        <p:spPr>
          <a:xfrm>
            <a:off x="7391520" y="19810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2" descr=""/>
          <p:cNvPicPr/>
          <p:nvPr/>
        </p:nvPicPr>
        <p:blipFill>
          <a:blip r:embed="rId10"/>
          <a:stretch/>
        </p:blipFill>
        <p:spPr>
          <a:xfrm>
            <a:off x="228600" y="4267080"/>
            <a:ext cx="2398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523880" y="533520"/>
          <a:ext cx="7239240" cy="1066680"/>
        </p:xfrm>
        <a:graphic>
          <a:graphicData uri="http://schemas.openxmlformats.org/drawingml/2006/table">
            <a:tbl>
              <a:tblPr/>
              <a:tblGrid>
                <a:gridCol w="72392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коррекционных задач 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ах с\х труда   \ направления 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371600" y="2133720"/>
          <a:ext cx="3200400" cy="299232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300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ятель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ственно- отсталы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ьнико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876920" y="2133720"/>
          <a:ext cx="3504960" cy="3809880"/>
        </p:xfrm>
        <a:graphic>
          <a:graphicData uri="http://schemas.openxmlformats.org/drawingml/2006/table">
            <a:tbl>
              <a:tblPr/>
              <a:tblGrid>
                <a:gridCol w="3504960"/>
              </a:tblGrid>
              <a:tr h="382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общетрудовых навыков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с текстом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овани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SzPct val="10279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ое выполнение зад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SzPct val="10279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 за своими действия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114" name="Line 23"/>
          <p:cNvSpPr/>
          <p:nvPr/>
        </p:nvSpPr>
        <p:spPr>
          <a:xfrm flipH="1">
            <a:off x="2819160" y="1600200"/>
            <a:ext cx="75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6477120" y="16002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4" descr="C:\Program Files\Common Files\Microsoft Shared\Clipart\cagcat50\NA01441_.wmf"/>
          <p:cNvPicPr/>
          <p:nvPr/>
        </p:nvPicPr>
        <p:blipFill>
          <a:blip r:embed="rId5"/>
          <a:stretch/>
        </p:blipFill>
        <p:spPr>
          <a:xfrm>
            <a:off x="0" y="4267080"/>
            <a:ext cx="209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447920" y="228600"/>
          <a:ext cx="7391160" cy="1544760"/>
        </p:xfrm>
        <a:graphic>
          <a:graphicData uri="http://schemas.openxmlformats.org/drawingml/2006/table">
            <a:tbl>
              <a:tblPr/>
              <a:tblGrid>
                <a:gridCol w="7391160"/>
              </a:tblGrid>
              <a:tr h="15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ая  направленно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е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118" name="AutoShape 33"/>
          <p:cNvSpPr/>
          <p:nvPr/>
        </p:nvSpPr>
        <p:spPr>
          <a:xfrm>
            <a:off x="4140360" y="2457360"/>
            <a:ext cx="1511280" cy="1428840"/>
          </a:xfrm>
          <a:prstGeom prst="downArrowCallout">
            <a:avLst>
              <a:gd name="adj1" fmla="val 214878"/>
              <a:gd name="adj2" fmla="val 206938"/>
              <a:gd name="adj3" fmla="val 16667"/>
              <a:gd name="adj4" fmla="val 66667"/>
            </a:avLst>
          </a:prstGeom>
          <a:solidFill>
            <a:srgbClr val="d69b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600200" y="4581360"/>
          <a:ext cx="7010280" cy="1584360"/>
        </p:xfrm>
        <a:graphic>
          <a:graphicData uri="http://schemas.openxmlformats.org/drawingml/2006/table">
            <a:tbl>
              <a:tblPr/>
              <a:tblGrid>
                <a:gridCol w="7010280"/>
              </a:tblGrid>
              <a:tr h="158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ормировать навыки  самостоятельной   работ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120" name="Line 43"/>
          <p:cNvSpPr/>
          <p:nvPr/>
        </p:nvSpPr>
        <p:spPr>
          <a:xfrm>
            <a:off x="49528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4"/>
          <p:cNvSpPr/>
          <p:nvPr/>
        </p:nvSpPr>
        <p:spPr>
          <a:xfrm>
            <a:off x="49528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900000" y="2492280"/>
            <a:ext cx="80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й из причин по которой учащиеся с ограниченными возможностями здоровья испытывают трудности при усвоении технико-технологических знаний, необходимых им в самостоятельной практической жизни в социуме, является недостаточная организация восприятия на уроке сельхоз.труд, поэтому целью своей работы  поставила совершенствование организации восприятия учебной информации на уроках трудового обуч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900000" y="476280"/>
            <a:ext cx="59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воей работе я использую способы повышения качества восприятия учебной информации на уроках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755640" y="1844640"/>
            <a:ext cx="799308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Актуализацию опорных зн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Обеспечение готовности учащихся к усвоению зн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Эффективное построение объясн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Применение нагляд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Применение эффективных методических приёмов концентрации внимания на учебной информ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Осуществление группового и дифференцированного способа обуч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Контроль за усвоением зн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6534000" y="0"/>
            <a:ext cx="2590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1042920" y="2492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е знания формируются, связываясь с ранее усвоенными. Считаю важным этапом урока, этап актуализации опорных знаний и навыков, так как при отсутствии этих опорных знаний учащиеся не имеют возможности осуществить нужную связь. В результате соответствующая часть сообщения учителя не усваивается или воспринимается не правильно. На этапе актуализации я провожу не только фронтальный срез по типу Что? Где? Когда? но и краткие письменные опросы, тестирование для определения опорных знаний каждого учащего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1403280" y="333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1. Актуализацию опорных знани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1:12:33Z</dcterms:created>
  <dc:creator>Сергей</dc:creator>
  <dc:description/>
  <dc:language>en-US</dc:language>
  <cp:lastModifiedBy>Silver</cp:lastModifiedBy>
  <dcterms:modified xsi:type="dcterms:W3CDTF">2015-02-03T17:03:52Z</dcterms:modified>
  <cp:revision>28</cp:revision>
  <dc:subject/>
  <dc:title>Презентация PowerPoint</dc:title>
</cp:coreProperties>
</file>