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115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ftr" idx="116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 type="sldNum" idx="117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D74-487C-4C19-A783-4AE3DDD774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976-ADE4-4E51-9DE0-4AC1B838B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93204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43E-14B1-4057-B1D3-00DAC8459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6C0D-9C77-4879-86BF-550F412C1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2A97-480D-48E2-A747-B0C54DEED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F52-AD27-4EC2-935A-71888A8D1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3D29-A7BE-40E3-8551-1A670AFE6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4644-C5C9-49E4-A5E3-8F5FA2DF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F7E9-0502-427A-9922-AD9EF0E6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25B2A9-5DFB-4E08-97AD-C562B0C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85BBD-FB3A-45F9-BF06-1104D1A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D47534-48AF-4110-8768-D152E074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0A60E-D2A9-4C55-821C-02CCF59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5485E-70D7-4888-81E8-670D45A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BCFD0-E998-42AE-B812-CA21B47B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A8514-005C-43E4-9A56-5DB1871A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A0A1F8-6D36-4BC7-BDE7-065970FC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4DA143-353D-49E5-BC14-B0B7C854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B19837-06B3-4356-9044-19B10394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A1B8-1A85-491E-9BF5-168E9407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E92537-E4AC-4A78-8CA3-32BD766C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A53811-C98B-46B5-9FF8-E292EA0C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6874AE-C996-4B09-9D2C-6F8FF799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39898B-1E12-45D2-9DFE-98EB24D9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9D133F-9E79-446D-86F3-BF92B890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9C1604-80C5-4B9E-8970-6FB3AE62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B1B158-3682-4205-9C21-7EB978F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C83BFA-D504-43C1-9319-EFB8CAD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AE94D7-B345-40AF-A460-EEE00797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82C626-55C8-47DB-AC03-148AE459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1BE2-DEC0-4112-829E-3C43C5DC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1092CD-F71C-491D-B374-F552FEB2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19D1EE-F1B5-4448-8CAF-D340BB88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4F5CD1-0CE9-43C9-9FD0-413F64A8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C16C08-17F6-4B7A-89E5-9E66111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852FCF-7EB3-49C3-A9BE-A79CC808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2E953C-94D1-48BE-91E7-C4010F3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640ADA-5ED3-4597-8917-E4F58F69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2FC6EE-DF32-421D-97EE-4BF82B11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67518E-527E-4319-AC34-E8355249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52042B-2445-4016-B762-C2575B10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E5A0-3DFB-4D63-9AA8-64A6ECBE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19B902-6E5F-49B3-B526-EF6C38DE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52C09D-1450-45E3-930D-C40AD06D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26399C-E8F2-443C-9CA7-A6277613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48FF56-8756-44F9-ADE1-BCD5BBCD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E2C1FB-2CB4-4070-A7AA-1CFFBE0E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74E82C-29D6-45F4-86C9-BCA4E615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6985F-2AEA-4001-9718-69FD7A3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6CD43E-8898-4266-8AEE-4ADE9BA3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9FB2B0-1DA7-45FA-B965-E3B14285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B0666F-854C-4D11-B89A-EFDAD81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AE26-8A34-43BF-B6E4-74B9941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1C1D3F-7EF5-43DB-A901-6A93EC3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2D4537-7D65-432D-ABC8-ABE4E7F0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ED1B11-3A7D-487A-AD9B-E575755F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D4C69F-BBA4-47C4-BE21-BBB1B247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1AC6A6-25B7-464B-AB33-B09D9584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026A85-0FC6-4A51-8E38-906FBBED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AF283C-F934-4759-B7E1-B7F533CF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F36168-5246-4F4A-9F17-D4E02D26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28A13B-60F6-4B7E-8E1B-E958EC02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E541E2-9472-4E2D-B91E-7AD8F19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D4E5-9E5B-4F8C-8F00-3A4B6710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552782-A19F-4239-97F9-2E0804C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8325D5-37E6-4485-BD70-EAEB819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63A86-E1E7-4E21-8D91-52890B5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01238C-B79F-47CD-9900-AE22BC8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CC804A-9FE1-432C-A336-26BB9B77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5B93AB-DC41-4524-92B3-63092839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32B078-DE77-40DE-8A6F-D88B216E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31C609-329C-4643-9107-229A5014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F3D172-19E7-4718-B405-629A06A8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E39964-F201-46AE-B48F-CE43FA2F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C5A6-AB87-4222-9CA0-B1D49A86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273909-316F-446C-A1FD-2A7DA099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8D7C1E-3249-4A7D-BB73-1FB95000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7DA116-521B-4DD8-BD81-FBBF6ACA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BE0ADE-F39B-4C6A-9E18-0A20B61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6CAAC4-2669-48BE-9829-FA597A9D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F389B7-7E5D-4049-8844-DC3A67F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CB03F3-4B1A-4751-B0AA-886806FB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3DA72B-52F7-4A25-8A0A-C9FA9347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B7F142-1373-44E4-839D-C06D7DC3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B5544-63FF-4B6B-B332-95862893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F25-3A17-4904-8667-1237D645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98C0E-71DC-4578-8477-6A9EF25B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173BF-580A-477D-9656-6E937702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B3A09-07B7-4506-A2C4-6D650701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466902-816F-4594-A4F5-22DA0034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D190E-0A0A-4271-A03B-3054BC6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277DD-C3F6-4F72-8D77-757DB23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14A4C-F47A-4A0E-9E44-E8F17921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D96FC-AE1B-45F4-B38D-431E110F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38D53-B8A4-4A50-A150-98B63170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56A82-3B94-404F-A586-EE21E6C5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1138-C0EA-4139-AD86-3B860D0F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DF394-FB17-4C14-B3DF-2F3FD1D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CB8D7-85F3-4B99-B268-7A815A99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9D09F-4428-4924-ABDF-87C301A2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29CCC8-3110-467A-85DF-36C7973F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BED40-10FE-461B-B1DD-53B23B50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370B8-B200-4E77-9946-F460263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FF114-9A97-42DD-BCAF-2B25D96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B536C-039B-4000-85E2-2684AE4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EFBEF6-46E4-4048-9033-8D3CA42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E1A1D-7BAE-4D8F-AEE8-DE0840E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3FE7-8E7A-4AC0-84F6-E56C3179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04ECA-359E-4D78-9C70-50090EA3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78DCA-823F-4FE6-AC24-C8F1A92A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980B1-086A-4731-B3A4-7B7FF902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6F1D6-5BBE-4DFA-9FDE-BAEAD572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BBD1A-E6A6-4B59-A797-97D9EA7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05A25-BAE2-4411-A462-4A8F1B05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56893-B072-4A04-998D-185E0634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C66A6-92E7-4FE0-9DFE-E0B7F208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2AD27-175B-4E0E-B93A-5E669CD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F0B84-FBB1-4336-BF74-E2BA7617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E4F0-A090-4FAF-9332-B5746035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5BA0-A8DE-4285-A0A0-1533382B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04581-6E59-445E-BBDA-600AA26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84FED-D2F7-4328-868F-A0E42F8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68EB0-7C9A-4364-9E06-33B6904A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12090-3BF6-413E-B4D7-60829D61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3799E-BA21-4CAB-AD64-CBF59064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E63EB-C5D8-4D50-A60B-F9AA87AF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3A1C5-16F8-4AF0-A5A1-274190F5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4366A-C3CE-4499-BCB2-1EFBD24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CBAF2-51CA-4002-BA4D-0A7E0FA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9C52B-A5B8-4495-AB1B-8CCA4231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C27-81EB-462B-88CD-540B2BD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61AB3-19C9-4952-948D-9F9F8432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C2785-D5A0-49CB-A00D-ED83F45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63992-1F05-41D3-906E-D39498B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48A6C-1017-4EFA-ACD0-1D913E12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25A04-3FB6-4C74-A50C-E1D33B7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CD241-A2AC-4CAC-94D5-F7330F66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4449B-3009-4259-B07A-61C652EF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17BFE-CD76-4295-B881-596060D6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901C2-EA2E-4158-AB52-F3E7FE98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56B34-5488-4C2B-81C6-C61CDD22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B1A-7683-4EBA-879C-CD8A2D5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DA892-2E9E-46E0-B5B9-95CD14B2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9E644-0B26-454A-9F16-3BE6641F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1A101-E984-4497-81EC-27DDF58B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49BB6-341F-4AFD-A0CF-8DC0DBB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8037A6-A8E8-4AF0-9E37-F8C34692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E84A6-EEDD-4229-88ED-1C71B75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77754-210F-445F-8921-35BB338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2E763-9A82-4F68-A610-FBB72D82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9FA1BF-29D1-4537-891C-17264FD0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44AD7-4367-4979-8702-4BA80699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CA35-450B-4C5E-9368-1702FF4C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3EEE3-6EB4-412E-B857-A28296A0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93574-363C-4B49-AA65-E191EAE4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861FB-B256-43DE-BC4B-635F2EE0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0F1EA-D43F-45A8-82BD-B8FB503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C6AAD-2A9F-46E9-B347-AA866EF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CE161-2CA8-4542-9A55-FFDF690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81460-1152-40A7-A42E-91B87C4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00DE1-8D95-440A-95F6-A436FF9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26F56-4F89-4A1E-8833-DCFB3E3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3B3D4-DA05-412D-9DD4-51082A03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D667-E160-4575-8CCC-16CF4B71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936F4-627B-4DE5-A14E-62529FC0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B54CD-D6A6-4654-9C6D-01B5DC0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52932-D4AD-404B-B3E7-27E7D9C9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1EC5D-72EB-495F-A1BD-D8DCC5B7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BAFFF-7D94-43EB-8DBA-0F557604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1325F-876B-43AD-BCA9-47363E0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29BF9-AC29-4560-A347-07AC616E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4FD53-BA45-402D-B347-651D7D6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92A53-BF1E-4179-AA66-2677035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FBB61-0FD2-48A6-9949-C4727F8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4680-628E-4031-8325-CEDDCF17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1ED9B-B6D4-4226-A766-DB7FF880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C6F08-12EE-410C-990E-2752FCDE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992E6-1FEF-4C49-BACB-30CA7DA4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23F83-EDB9-45D7-A45D-A5C6FEA4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816B0-63C1-46B3-B535-478B3212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87A029-94AD-473D-A372-BC377BAC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C90ED5-5590-44CD-B0B0-68BDEC6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013652-505C-4F1E-B7A7-61A00015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4C7DC-1B33-46FC-A61F-A7E9FF47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610762-EE38-4B86-8A8C-5F0BCE6F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F86A-E2D8-44A1-81C9-35982B05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C9B8BD-3578-4DB7-B9CA-002DF22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9B54B6-D90F-4B1D-A62F-3D7D247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DF7668-B6F0-4611-A55F-77394EA6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AAFF7-2CFD-4D09-BE67-93DE8E8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79C89F-8439-4982-AA77-67E9C270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889FF-5620-43BA-8684-CC96537D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608E8-9EB3-44A4-B613-A174050D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D55CC-E2A4-4D96-BBC2-1CAB40AF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4A623D-5391-4A5F-8127-B6881B2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373C02-B54B-4185-9814-95A94766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8AA6-BE2D-4A1C-B2D0-84609E1E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05AD0-8820-48FC-9E2F-AC84EFF5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163520-A111-4AB9-AF30-DEE22FF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9C0CBA-E14B-4F86-9DC8-50DDE34C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4F962A-2534-4F62-9356-BEA04AA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FE1E94-6A23-485E-878E-9052097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348EE5-FE6D-4421-82FB-A9781A3D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977D54-EE60-46A5-9A18-620CC2C3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085D51-4D12-48C5-B6FB-DA072E56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F323A8-267B-42ED-935E-3BA4EEC0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2DDD3F-953E-4A80-9AF4-C6EE2CE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C96A-147A-4E70-BCF2-561198F8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AA8ABC-755F-4BFA-AF72-2B755B5E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308BCD-1908-4EF6-AE3B-035D7BF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45FEB4-F227-4AA7-BDB3-A0CDE60A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A1C4B8-6FE3-4374-BFD4-095149D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05A35B-A86E-44E4-8DE6-1AB1CD7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3A3B9-D60B-41F8-9B4B-235C31C5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D59862-AF45-4BF5-84EC-86B30CC4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744877-8E5B-46F9-A009-35794DD0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F920C3-D516-416D-B2F4-7DB48A32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EC2E38-8CED-449E-AF4A-A144417E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4DD0-9C7E-4136-B463-803FAD9C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DCA83C-353D-4EE9-BABD-959CC5AC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8D9D47-4D96-4742-A508-2C8A8E3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5852B9-FFAD-4AD1-9692-8246A811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D24373-277E-4494-B54E-3073205F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DC6B9B-726F-408B-B4C9-21E941A1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F36357-B579-4440-98EB-D0F54925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42E3BB-1E21-4983-9C24-B1466B7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E2962C-B8EF-487F-A871-0B3F713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79397-002A-4540-A263-E47904C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3718AF-F97F-4343-89D2-23AC78B7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8698-AF59-4B2E-A212-6865FAD1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1D31-4059-4DED-9BFC-6292538E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3C0D59-873B-4B47-A4FD-4AC7E6C3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A2A0F7E-942B-4894-A0A1-461C6E86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1CE617E-DEAC-447D-8356-C57243D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C9DD869-45C4-4FEB-8BC9-720B5BA5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35657E9-2975-41AB-87D4-DD0D8E5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58DA825-592A-4B1D-8E84-18EDAEE1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81F7078-30BA-4C00-BF7C-2BB7CFE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F625FF-39D1-4603-A6FA-2CF0845B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9BC99DD-A48F-494C-919E-455F462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C06A160-31B6-4B99-98FF-C0BB4C8D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66F5-0F38-4798-ABE7-A04462F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471DDF2-2124-4569-B441-FB859FD6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11624F7-9A4B-46BF-A681-44CF50B1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FD4F6A-B766-4EC7-80F9-7D62BCCE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F41072-BB95-4165-9CAF-AB6508AF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BC877E-CD3E-43FB-AA86-422BE9FB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BDFEBA-B399-4DCF-896F-CC9D3512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B5D488-DC26-4930-8225-61603BF7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D8AAC9-2133-4B8E-9D90-64C4CE58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38F212-6E88-4F0F-8A7B-79C2CCBC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7DE0DA-9B5D-4628-B991-CB54AF8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B29E-7767-4EEF-930F-27FFB07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46B96B-A7BE-4381-AD61-313A89D5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6FC151-EB42-4637-BBBF-2C10F189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CE9225-49EA-4A1D-9131-981F5710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407CE6-DE41-4663-A2DD-F907BE87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0877F5-23EA-4294-868E-937FFEF2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81065C-A1E6-4D46-88C1-4AE8ED81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D1C2EE-0B61-407C-9118-4654526C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2D4905-E10F-4398-9D89-4ADA912F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5FFB58-7AB5-4C9B-8C93-5BFBD60A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F03F72-FCAB-447E-A3EB-C926F13C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0ABD-4601-476E-8FE1-AA65526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4FB0C7-250E-435C-87EB-EAE35A9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565E27-A56F-4C2A-958E-E02BF9E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FB1268-269A-46ED-90FA-FA93F28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F70774-FEE4-4398-8026-E3D71AE2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43B555-D658-451B-A094-42085B6A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292FBF-36C9-450D-8A02-4469695E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E077D8-7CC4-44E7-8590-32EFDEC2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685BE3-F29F-452F-98B2-1DF9E21E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8D9446-E38C-4AA5-A44D-352D28CA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2E84D7-7A38-49A9-923C-A492EF2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0365-47BF-4A6F-9EA8-6231D3A9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05DA06-CAC8-4ECC-AABC-E8471CE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D9DD70-05E3-4968-AD31-872115F5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A581C2-F72D-4011-BD98-22161076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10290D-B0EF-4C48-BA24-2AE8D5B9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F9CB8C-3AB2-4520-A322-6FE1350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954061-2E66-4515-BF98-55CC868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FB5A6F-EA23-4B19-B636-A90D7F4C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D116C5-66F3-4AA6-B2AD-14AD6D1F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627AC2-2C5B-465A-BF1A-CDE8208B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A20092-FD19-4EB2-8788-52FD3271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8BE1-C765-4BFC-BE26-EAF9127C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F6CBD5-C114-49E0-99A9-ED9B8FD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3E15C1-3229-462B-9362-E374EE71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F5F1DE-D688-4544-9C86-C1CBB698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2828AA-9B90-44A9-B6C5-AB13D6D1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AE64E1-4FA3-4B36-8AC2-398DBA77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009129-8EC6-43D5-B4EE-4DA65B0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479DDD-ED0A-4690-947C-1C966AE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4C2EF3-3C7A-4211-809E-F31E305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AB898D-B4DC-4552-BCE0-75DDDB8E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EEFBD0-FAE2-49A5-A3D0-0801DC35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C6EC-1366-4870-A1F7-F5EECCC8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C9F963-78EE-4BE0-924F-E88B4C55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710BFB-2D2D-4824-B962-6E3CF15F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7EABB3-4405-4093-A74F-81A2F76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C801FB-D06F-4525-8106-66FBD140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124309-E416-4F84-8840-031A3CF1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A1E784-3AD3-4BE8-9C3C-E12C3CC7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D4D2BD-F75D-45A7-BCAC-603EA226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015E66-EB03-4B4C-B5BA-29F05A9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601687-963D-419D-B130-158A623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3F9B7D-E774-4B0C-9063-44420B18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46A49-9C83-4618-91EA-A269C194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F38521-9F25-4337-BD3F-9570089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7A48FB-4CF7-40FD-9656-6E8AA600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973FDC-938B-4135-A0EB-502A41EC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BEDA02-D9F9-40B2-A8C1-85C76400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4AFDCB-90EF-4580-8ACF-E41311C8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E0E577-A766-4961-8566-4B88BD7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58E0EC-C872-4134-898D-FC528E8A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E71891-F78E-4383-AFDF-75755068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E380AB-AC58-40EF-95DC-355B3DAF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F392EB-668C-4CE3-8F2A-17497F2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284C5-7C1B-4131-9028-939E935E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3AB64F-5AE8-414B-BC79-61A21CB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BA3B1D-81BA-4101-8C02-36ABCC8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52F46D-AE9F-47A3-857A-DB3BFE8B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FB9E9B-FB96-46F3-AF2D-8784C99D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798B2B-A482-478B-B309-988F8047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BA5D2A-AA38-4DBE-B67E-5918303D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E98905-EC29-4E89-B58A-5CEAEEDF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E10150-3E4F-4929-B2F3-361D4BB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8EC26A-3F8F-44DD-9BF0-DBA64421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72BE81-FDD6-47DE-913D-0ECEAF7C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472EE-BA0C-4795-94D2-DD204939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024B00-7FC7-4988-81BB-DA24AF4A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18D00F-B9F9-4564-83FC-77A19F24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D20387-E6DF-49F9-AF53-837007C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4B9C26-A986-4FA3-9D97-46E3629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379754-1749-40D2-873C-F38AB0CD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452458-6454-452E-8623-D49E1368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6BCFA6-4CD3-4B76-9A33-3F3B98FC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AC0DAE-4242-4EEF-AD36-DBA2A8CA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39A0B4-FF13-4576-9B27-F8934EEA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40DDA9-B03F-4239-963C-FEFB9D5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D2C9-D28B-45CD-B299-899250AB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D153E-9CE6-4D15-9B7F-786DCB2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7A18FB-C501-4383-8954-6D806D07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E6DA62-8540-4663-852A-3C145773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AC5600-EC20-4B03-89CF-D2914B16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86BE21-2F98-4B83-B8CB-196AAF54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CF38E8-993A-4F81-9818-D3E0C8A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4F01D8-EA17-4884-A3A8-2B8E333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57EA87-86BA-4E5C-B6B7-A8D3938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615F5D-4A3A-4DD6-BC56-B6B0B024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5C6CE0-870D-4EAD-A41B-6C6F6B72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CADC5F-F9BA-4504-9975-78A98CE6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2B51A-35D8-42DF-BCA2-7B6970F0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81D4D0-0F2D-4964-8197-FAF3CB46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9E68E7-133B-4884-A576-20A9F08F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9FAABA-3226-48D4-934F-BE868671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CB6797-81B7-4A82-A6FB-C172021A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EBEB8E-56FE-414B-B59B-ECABD243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C604CB-CEE7-4EDB-A796-5578766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3AF507-8310-47F4-92E4-48E25FB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9E907D-7B0F-4248-86FA-88C28D8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BDAA7B-B75E-4580-B625-CE497197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D02D58-696E-401C-8F1B-80DD4EC1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006F7-55A3-48E9-B494-ADBBAB94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B6C2CD-E26D-4320-9A29-1C397004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597D66-EEC7-4CAE-8F7F-F5387D07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858612-C458-4E99-A831-27F86CE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FCF48E-433E-4CDC-83B0-46F9346E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A7F444-FE3D-4648-81CE-B527E3FB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F60B0A-BBB3-442B-BBDB-4F48605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7DBB4A-BC57-435D-8C68-9E80ACF8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7F675A-4ADB-4609-AE30-83627606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2BF154-8077-465A-9D52-537FF12D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FBF55F-BA5B-4246-BB84-094FBA9D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77E6F-86BA-420A-94F6-151D02A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0EDD42-0E0A-4DDE-91E9-3DF40DD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51E394-F952-4D8D-A1B3-34877F1C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88DA5F-4DFC-4F95-874C-E8A06D47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CEF8F8-7ED3-4CD0-A4AE-71B070E3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B7739C-8E09-4E67-BA0F-1519F0A7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A8F1BC-D272-421A-AE14-497B53E2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4ECD28-1D2E-48E3-BE82-7FFBDD84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8E6CD6-323C-4AA8-9675-82051ACF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E3811C-7ED5-4EE1-B16D-C4702118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6D34BE-7C77-4355-8B64-8CA94BA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B1048-3E5C-4521-8A69-B1F01D2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F50076-58DC-4AC6-8E7F-69614EE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049682-5EFC-4BB7-9EAB-CC43E718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D0BDAC-A33C-4B3A-8BCA-C556F4B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2F0810-4742-42B4-AEEE-19305217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9BC1E2-8619-4FCD-8118-F16827D8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27713E-4718-452D-8DA8-FF79C165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2BC083-9B52-4CFC-9416-8743DC8B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B3186F-1965-474E-A00C-FA2175A0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405206-1BEC-4F77-8031-93F78433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05022F-5B40-4B0F-95B6-5AFCC88E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BC096-59B0-4540-9347-897CB16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9B993B-4CC6-481E-BC49-B8E53CE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FD5C81-D553-45E0-8777-823D6FB9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EBAF38-5858-47BF-AA8A-2EB1F0E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39FC6F-3ABA-44DF-B28F-8F47855D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C55BD2-B5E9-4BC9-9204-344DF7BA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9CC362-EF79-4B17-943A-25F64864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253D9BE-E4C6-477E-A716-3D65593F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E5F91-A6B6-46D6-8815-06D619F7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130F5-50D5-405D-BB26-9E861CA8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62F5E-B0D5-4E23-81FD-595B0AE0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33492-2D0A-4086-8CDD-1B83E530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8036-DD2C-40D1-A935-9BD2AE8F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1A03D-7CA3-4271-AA2D-5127E4F8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E668B-331A-4C2D-9372-A37B41BF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F9867-A256-4B08-A1EF-80FB643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D4C30-01DA-41F2-BFD1-179A5A31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6EF9F-329C-4D4C-A2A4-92E7088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17E26-0626-45EF-9229-29BC16A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8746E-F279-438D-A02D-42871F7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174C7-9A0A-475A-975B-BA847369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B7F0F-B12E-46A2-8AF4-2F8A3B36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CF56B-E9B6-4A14-8064-B9400101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722B-8F86-451C-BA67-E87FF787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FE103-98CE-4559-8D35-B2B5F09F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41FA9-9CCF-4A91-84EC-28D4AA01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97060-3C08-4D2F-89CA-98515BB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BB0CD-884C-4C2D-90D5-3F659450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4332D-BCE1-468C-828F-E053A2D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7AF60-9C33-4527-9606-8FBBA5E4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83967-1122-45EC-960F-F49A0325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F3D2E-4928-47C2-8192-DC38CB4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7668E-D58B-4E96-90A4-7DAB1F2A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C9D23-E5FA-40BA-8FEE-101D3B7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EC24-B9C6-4EAC-B940-E287B93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35335-B675-414D-9A3B-78318DA3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B712D-FAF4-48B0-B605-A582179C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6505B-1F22-4329-813A-2D0D85D9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5F8B0-513F-421B-BF54-87BC01FF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22F2E-97A5-442F-99B2-082C121F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011BE-2B72-43BD-A69B-9C12CA09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93D5A-3C2C-4A3B-94D4-B1ACA70B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32F55-F6D0-4F6D-95BE-A8C8F0A4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B348E-76CC-4EEE-8D94-B1738180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5312F-C952-42FA-8BA9-F8C6C69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A8D7-CCD1-487E-9501-5A6A084F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F2863-6C75-4EB4-B352-1AC7347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82316-3C6F-4D3F-83A9-2D295E3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6DF67-668D-4076-8870-6B31BA27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8DA40-82D2-4A11-94DB-927877BA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150B4-5A2B-42F0-B383-C8D399A8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B3150-4B6C-4B0E-9FAD-2A9700FA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F959A-64DD-4928-ADC0-73FD47EE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1AB764-4896-4E8B-A3F8-5803532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56122-487E-44C7-94FE-2529C135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D8CA42-4E05-4B4C-B938-F03332EF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169F-695A-4E35-BF61-0CF520D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5E2D1-AE46-438A-A602-24A6EF46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11A27F-4D02-418F-9A75-F40F1F18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3139D8-A9AE-4251-94F1-8B4BC87F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AF894-772C-43C5-B25F-329C979A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5D744-C510-48A9-BF6B-4A7FB32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B17AE-8D8C-494D-BC52-DA67CDEC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E313E-E86C-4251-B377-71991B93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2976A-9097-4740-89A1-B0CAD4D8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AE7DAA-68C1-49C1-8DDF-2A1D6E0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51DDD-0A5F-479E-AE4F-74D490A9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B16F-EFEE-477A-BAD8-64F0E9F9BA9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9B91-A213-46EA-9811-522C69BA7E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A2B5-4885-492E-9B12-E43D818A0A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24E-B76D-4C7B-8D4D-A64E972F8D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25D-2709-444D-8B87-32FBA2B1829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3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F39B-33F9-40B7-AACF-F9735243CC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0FA6-BA0B-44FB-91F9-63C22309C0F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AA0-045B-4AF2-B518-2D8FCD6202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79E8-18D1-4CC4-ACC7-DE674C7CE1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ED31-A3A7-409E-B09E-4935B30E9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D3C3-1264-4D0E-AE50-49E56B3DC09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421-FFB6-493D-B29B-70CA38015E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61BC-564F-470F-833A-18E90AD1860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FDA6-C4BF-4C17-AABA-0B28CAC97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E518-1526-4C75-9F35-CD3F6C7BEB4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609-55A6-4DAE-884E-41E4701FE8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A5E6-5432-41BB-AC55-D890F23F4E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0A1C-A397-4590-872F-84197BCCA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0A7C-6CA2-4041-8DC3-543FC1A3C9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F7E6-A917-49AE-9534-7C5249B2D5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7F73-F9D9-4B00-8ED7-E8A4AA94B5E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5B0C-DA5A-46D9-AC18-CEFA2078E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DED4-29A2-44D5-BAA8-D1AFBB0A45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BB7A-50D5-48E3-89F7-34F294077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329E-CD15-4F5E-B280-50A3ED5091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E2F8-08E2-4D5A-93FC-685266025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B00D-31D7-4F71-AD70-666A9F9DB37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6D6-9996-4681-86B3-C595A9477D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83E3-89E6-40E3-AE2B-0BD4757CE2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856-A9DE-4F17-86C6-969B0063F7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73C5-A025-4728-A471-49118E78E2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C7C7-5CA3-4D79-B73B-8A1808F4B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B852-64CF-4F69-9B5E-440890EDEF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4D23-E07E-4B3D-9A4E-B5304B0D9B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CAC9-FCBE-4B78-81AC-1B151F245B4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05A-764D-4097-8ED2-6D563B73AA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B9A7-3E11-4093-AFC9-4772557387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403-756B-43F3-98F8-A663142B5B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CEA4-E150-4968-906F-969100404F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BBFB-9A30-44F6-A2AA-14893F73AA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CF09-FDD2-4B53-8C24-71109A26174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26D1-5E83-4BFB-9E91-024679C430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B51E-2054-4334-BAF2-89556312AB2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0B9-6EEC-407D-98AB-C499A49946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38F3-7057-4934-A1AB-5EDFA40F05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304A-F678-47C3-B63E-8B0CABC74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A192-AE8C-417C-8E6F-DBD62D00FD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D5DA-4948-4EEB-B3D3-8826E0CAC1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1AED-FE62-4ABD-A6B7-327BE17B604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9988-ABB0-42A2-BC9F-F701055435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FB7-7854-47B6-9742-D4D25C5C58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92F-D4F0-4839-802F-46A2507B2D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76A7-2D1F-408D-A808-6BB55BA4A05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FCCE-38F1-452F-9AE7-60637E972C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09C-71D6-416D-9B99-A4EBD0B6AD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9360-78DD-4AAC-8303-6BA4E2EE73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2C16-C76B-4FA7-9930-C7E29CAB79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4887-9B08-4FF6-8D7F-8F7959C7A9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D03-6E38-436F-9318-AA2B8A490CF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6FAB-841D-4CAA-97F9-C6C76611A0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44E-B057-4D40-BA4E-31E6996D74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A8F8-083D-4514-B649-6FE84CEC2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0B31-FBAE-49CD-80D2-986DE541BC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876-0A11-4B79-8B05-42AA6688C7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207-0FB1-4113-BFF1-9F12BB9CC5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EDD-7F65-4583-BFE3-757C1066E8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BCF9-873D-4DBE-B5C9-2F6D5BCBCF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9F64-0411-4A4A-AAB8-FDDC45B25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F50A-AB08-43D0-B8FA-A45C7ECEDDE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D95-C2D0-41E2-B771-56AA143385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A776-D981-4AF0-B035-AAA8BF33A5F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2E6B-7FF1-4778-94A9-F1FE04EE9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86C9-E2FE-4666-A03E-79CD378EDB0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301-B6FB-4FE1-AD50-7218A9E2A4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A2A5-E9B0-440C-8D2C-5A2F1DC6B67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02C5-28A8-4692-9476-0FFD14E845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рямоугольник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5"/>
          <p:cNvSpPr/>
          <p:nvPr/>
        </p:nvSpPr>
        <p:spPr>
          <a:xfrm>
            <a:off x="0" y="1523880"/>
            <a:ext cx="9144000" cy="3200400"/>
          </a:xfrm>
          <a:prstGeom prst="roundRect">
            <a:avLst>
              <a:gd name="adj" fmla="val 8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формационно-просветительск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6"/>
          <p:cNvSpPr/>
          <p:nvPr/>
        </p:nvSpPr>
        <p:spPr>
          <a:xfrm>
            <a:off x="0" y="1033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 Тюмен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Прямоугольник 24"/>
          <p:cNvSpPr/>
          <p:nvPr/>
        </p:nvSpPr>
        <p:spPr>
          <a:xfrm>
            <a:off x="0" y="0"/>
            <a:ext cx="3279600" cy="68580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EBF9-31CE-4C7D-A30D-A59AE6990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Скругленный прямоугольник 16"/>
          <p:cNvSpPr/>
          <p:nvPr/>
        </p:nvSpPr>
        <p:spPr>
          <a:xfrm>
            <a:off x="-11160" y="641520"/>
            <a:ext cx="3260880" cy="1573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пция информационно-просветительск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18"/>
          <p:cNvSpPr/>
          <p:nvPr/>
        </p:nvSpPr>
        <p:spPr>
          <a:xfrm>
            <a:off x="4680" y="2225520"/>
            <a:ext cx="3238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апрель 2016 г. - май 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2"/>
          <p:cNvSpPr/>
          <p:nvPr/>
        </p:nvSpPr>
        <p:spPr>
          <a:xfrm>
            <a:off x="3524400" y="2214720"/>
            <a:ext cx="53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развитие интереса и популяризация знаний о ключевых исторических событиях и лицах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активизация просветительской работы среди обучающихся через востребованные детьми и молодёжью формы и методы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использование информационных ресурсов региональных СМИ в гражданско-патриотическом воспитании детей и молодё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4"/>
          <p:cNvSpPr/>
          <p:nvPr/>
        </p:nvSpPr>
        <p:spPr>
          <a:xfrm>
            <a:off x="3770280" y="2221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рямоугольник 5"/>
          <p:cNvSpPr/>
          <p:nvPr/>
        </p:nvSpPr>
        <p:spPr>
          <a:xfrm>
            <a:off x="3794040" y="63324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формирование у обучающихся гражданского самосознания, сохранение памяти о героическом прошлом своей страны и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6"/>
          <p:cNvSpPr/>
          <p:nvPr/>
        </p:nvSpPr>
        <p:spPr>
          <a:xfrm>
            <a:off x="3795120" y="1819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Равнобедренный треугольник 44"/>
          <p:cNvSpPr/>
          <p:nvPr/>
        </p:nvSpPr>
        <p:spPr>
          <a:xfrm rot="5400000">
            <a:off x="3540240" y="3499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Равнобедренный треугольник 49"/>
          <p:cNvSpPr/>
          <p:nvPr/>
        </p:nvSpPr>
        <p:spPr>
          <a:xfrm rot="5400000">
            <a:off x="3559320" y="19548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ая соединительная линия 54"/>
          <p:cNvSpPr/>
          <p:nvPr/>
        </p:nvSpPr>
        <p:spPr>
          <a:xfrm flipH="1">
            <a:off x="3274920" y="0"/>
            <a:ext cx="28800" cy="68580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4"/>
          <p:cNvSpPr/>
          <p:nvPr/>
        </p:nvSpPr>
        <p:spPr>
          <a:xfrm>
            <a:off x="3887640" y="50292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5"/>
          <p:cNvSpPr/>
          <p:nvPr/>
        </p:nvSpPr>
        <p:spPr>
          <a:xfrm>
            <a:off x="3911760" y="54403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ети школьного возраста, студенческая и рабочая молодежь, родители, педагоги, общественные организации, государственные учреждения различных проф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Равнобедренный треугольник 43"/>
          <p:cNvSpPr/>
          <p:nvPr/>
        </p:nvSpPr>
        <p:spPr>
          <a:xfrm rot="5400000">
            <a:off x="3658320" y="515664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ая соединительная линия 10"/>
          <p:cNvSpPr/>
          <p:nvPr/>
        </p:nvSpPr>
        <p:spPr>
          <a:xfrm>
            <a:off x="3911760" y="167652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Прямая соединительная линия 51"/>
          <p:cNvSpPr/>
          <p:nvPr/>
        </p:nvSpPr>
        <p:spPr>
          <a:xfrm>
            <a:off x="3911760" y="495288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Прямоугольник 3"/>
          <p:cNvSpPr/>
          <p:nvPr/>
        </p:nvSpPr>
        <p:spPr>
          <a:xfrm>
            <a:off x="246240" y="3475080"/>
            <a:ext cx="27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 Light"/>
              </a:rPr>
              <a:t>Тематически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9"/>
          <p:cNvSpPr/>
          <p:nvPr/>
        </p:nvSpPr>
        <p:spPr>
          <a:xfrm>
            <a:off x="522360" y="4319640"/>
            <a:ext cx="2454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рямая соединительная линия 20"/>
          <p:cNvSpPr/>
          <p:nvPr/>
        </p:nvSpPr>
        <p:spPr>
          <a:xfrm>
            <a:off x="598320" y="3048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8D01-EFE2-4BEA-8F80-5E04E6246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144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19"/>
          <p:cNvSpPr/>
          <p:nvPr/>
        </p:nvSpPr>
        <p:spPr>
          <a:xfrm>
            <a:off x="3525840" y="685800"/>
            <a:ext cx="2546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alibri"/>
              </a:rPr>
              <a:t>Сайты образовательных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Прямоугольник 20"/>
          <p:cNvSpPr/>
          <p:nvPr/>
        </p:nvSpPr>
        <p:spPr>
          <a:xfrm>
            <a:off x="152280" y="685800"/>
            <a:ext cx="2971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Calibri"/>
              </a:rPr>
              <a:t>Площадки популярных социальн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оугольник 22"/>
          <p:cNvSpPr/>
          <p:nvPr/>
        </p:nvSpPr>
        <p:spPr>
          <a:xfrm>
            <a:off x="6378480" y="685800"/>
            <a:ext cx="2765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Образовательные и иные заинтересованны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traight Connector 28"/>
          <p:cNvSpPr/>
          <p:nvPr/>
        </p:nvSpPr>
        <p:spPr>
          <a:xfrm>
            <a:off x="727200" y="157176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Straight Connector 28"/>
          <p:cNvSpPr/>
          <p:nvPr/>
        </p:nvSpPr>
        <p:spPr>
          <a:xfrm>
            <a:off x="3984480" y="1566720"/>
            <a:ext cx="169560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traight Connector 28"/>
          <p:cNvSpPr/>
          <p:nvPr/>
        </p:nvSpPr>
        <p:spPr>
          <a:xfrm>
            <a:off x="7004160" y="156672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34"/>
          <p:cNvSpPr/>
          <p:nvPr/>
        </p:nvSpPr>
        <p:spPr>
          <a:xfrm>
            <a:off x="393840" y="1758960"/>
            <a:ext cx="273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оведение конкурсов видеороликов, плакатов, стихотворных, песенных и иных художественных произведений юных авт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езентации исследовательских работ, выполненных школьниками и студентами индивидуально, в соавторстве, совместно со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Организация отчетно-новостной площадки - форума для предоставления широкой публике информации о наиболее интересных и удачных мероприят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35"/>
          <p:cNvSpPr/>
          <p:nvPr/>
        </p:nvSpPr>
        <p:spPr>
          <a:xfrm>
            <a:off x="3519360" y="1690560"/>
            <a:ext cx="2652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Создание интерактивных «копилок» видеоматериалов, ссылок на тематические порталы, методических презентаций, документальных и иных материалов для использования в работе педагогами и дет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Новостные площадки акций, проектов, отражающих специфику учреждений, территории, историю жителей родного города, с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Виртуальные музейные «окна», основанные на работах детей и молодёжи совместно с родителями, общественными и иными организациями и учрежд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36"/>
          <p:cNvSpPr/>
          <p:nvPr/>
        </p:nvSpPr>
        <p:spPr>
          <a:xfrm>
            <a:off x="6504120" y="1758960"/>
            <a:ext cx="2514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Обновление («перезагрузка») работы районных, городских, школьных музеев (музейных комнат), библиот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Работа дискуссионных взросло - детских площадок с последующим отражением материалов на сайтах, организация и проведение конкурсных мероприятий совместно со СМИ, массовых акций, открытых совместных занятий по заявленной тематике, флеш-мобов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3"/>
          <p:cNvSpPr/>
          <p:nvPr/>
        </p:nvSpPr>
        <p:spPr>
          <a:xfrm>
            <a:off x="71280" y="2430360"/>
            <a:ext cx="307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о-метод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Group 38" descr=""/>
          <p:cNvPicPr/>
          <p:nvPr/>
        </p:nvPicPr>
        <p:blipFill>
          <a:blip r:embed="rId1"/>
          <a:stretch/>
        </p:blipFill>
        <p:spPr>
          <a:xfrm>
            <a:off x="3309840" y="396720"/>
            <a:ext cx="208080" cy="206640"/>
          </a:xfrm>
          <a:prstGeom prst="rect">
            <a:avLst/>
          </a:prstGeom>
          <a:ln w="0">
            <a:noFill/>
          </a:ln>
        </p:spPr>
      </p:pic>
      <p:sp>
        <p:nvSpPr>
          <p:cNvPr id="1607" name="Прямоугольник 5"/>
          <p:cNvSpPr/>
          <p:nvPr/>
        </p:nvSpPr>
        <p:spPr>
          <a:xfrm>
            <a:off x="3625920" y="30492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направление в общеобразовательные организации перечня ключевых событий (дат), личностей, подготовка кратких информационных материалов по содержанию заявленных в проекте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Прямоугольник 34"/>
          <p:cNvSpPr/>
          <p:nvPr/>
        </p:nvSpPr>
        <p:spPr>
          <a:xfrm>
            <a:off x="5486400" y="1376280"/>
            <a:ext cx="3276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ОН ТО совместно с 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Group 38" descr=""/>
          <p:cNvPicPr/>
          <p:nvPr/>
        </p:nvPicPr>
        <p:blipFill>
          <a:blip r:embed="rId2"/>
          <a:stretch/>
        </p:blipFill>
        <p:spPr>
          <a:xfrm>
            <a:off x="3365640" y="216360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1610" name="Прямоугольник 5"/>
          <p:cNvSpPr/>
          <p:nvPr/>
        </p:nvSpPr>
        <p:spPr>
          <a:xfrm>
            <a:off x="3625920" y="205740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стоянное методическое сопровождение работы педагогов очно и дистанционно в рамках реализации мероприятий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Прямоугольник 39"/>
          <p:cNvSpPr/>
          <p:nvPr/>
        </p:nvSpPr>
        <p:spPr>
          <a:xfrm>
            <a:off x="6000840" y="275760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Group 38" descr=""/>
          <p:cNvPicPr/>
          <p:nvPr/>
        </p:nvPicPr>
        <p:blipFill>
          <a:blip r:embed="rId3"/>
          <a:stretch/>
        </p:blipFill>
        <p:spPr>
          <a:xfrm>
            <a:off x="3389400" y="3535200"/>
            <a:ext cx="207720" cy="208080"/>
          </a:xfrm>
          <a:prstGeom prst="rect">
            <a:avLst/>
          </a:prstGeom>
          <a:ln w="0">
            <a:noFill/>
          </a:ln>
        </p:spPr>
      </p:pic>
      <p:sp>
        <p:nvSpPr>
          <p:cNvPr id="1613" name="Прямоугольник 5"/>
          <p:cNvSpPr/>
          <p:nvPr/>
        </p:nvSpPr>
        <p:spPr>
          <a:xfrm>
            <a:off x="3641760" y="342900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дготовка и реализация циклов тематических программ, видеосюжетов, радиопередач, мультимедийных и видеоурок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44"/>
          <p:cNvSpPr/>
          <p:nvPr/>
        </p:nvSpPr>
        <p:spPr>
          <a:xfrm>
            <a:off x="6031080" y="4313160"/>
            <a:ext cx="27651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ИП ТО совместно со 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Group 38" descr=""/>
          <p:cNvPicPr/>
          <p:nvPr/>
        </p:nvPicPr>
        <p:blipFill>
          <a:blip r:embed="rId4"/>
          <a:stretch/>
        </p:blipFill>
        <p:spPr>
          <a:xfrm>
            <a:off x="3389400" y="5175360"/>
            <a:ext cx="207720" cy="207720"/>
          </a:xfrm>
          <a:prstGeom prst="rect">
            <a:avLst/>
          </a:prstGeom>
          <a:ln w="0">
            <a:noFill/>
          </a:ln>
        </p:spPr>
      </p:pic>
      <p:sp>
        <p:nvSpPr>
          <p:cNvPr id="1616" name="Прямоугольник 5"/>
          <p:cNvSpPr/>
          <p:nvPr/>
        </p:nvSpPr>
        <p:spPr>
          <a:xfrm>
            <a:off x="3651120" y="507528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оведение конкурсных семейно-школьных и молодёжных мероприятий муниципального и регионального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9"/>
          <p:cNvSpPr/>
          <p:nvPr/>
        </p:nvSpPr>
        <p:spPr>
          <a:xfrm>
            <a:off x="6031080" y="586116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СМИ, ДИП ТО, ДОН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1" name="Group 38" descr=""/>
          <p:cNvPicPr/>
          <p:nvPr/>
        </p:nvPicPr>
        <p:blipFill>
          <a:blip r:embed="rId1"/>
          <a:stretch/>
        </p:blipFill>
        <p:spPr>
          <a:xfrm>
            <a:off x="5425920" y="231840"/>
            <a:ext cx="212760" cy="206280"/>
          </a:xfrm>
          <a:prstGeom prst="rect">
            <a:avLst/>
          </a:prstGeom>
          <a:ln w="0">
            <a:noFill/>
          </a:ln>
        </p:spPr>
      </p:pic>
      <p:sp>
        <p:nvSpPr>
          <p:cNvPr id="1622" name="Прямоугольник 5"/>
          <p:cNvSpPr/>
          <p:nvPr/>
        </p:nvSpPr>
        <p:spPr>
          <a:xfrm>
            <a:off x="3152880" y="668160"/>
            <a:ext cx="23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иноуроки Великой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34"/>
          <p:cNvSpPr/>
          <p:nvPr/>
        </p:nvSpPr>
        <p:spPr>
          <a:xfrm>
            <a:off x="5718240" y="1811160"/>
            <a:ext cx="3276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ЗАО «Сибинформбю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Прямоугольник 3"/>
          <p:cNvSpPr/>
          <p:nvPr/>
        </p:nvSpPr>
        <p:spPr>
          <a:xfrm>
            <a:off x="239760" y="1862280"/>
            <a:ext cx="278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Прямая соединительная линия 51"/>
          <p:cNvSpPr/>
          <p:nvPr/>
        </p:nvSpPr>
        <p:spPr>
          <a:xfrm>
            <a:off x="473040" y="3021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Прямоугольник 52"/>
          <p:cNvSpPr/>
          <p:nvPr/>
        </p:nvSpPr>
        <p:spPr>
          <a:xfrm>
            <a:off x="425520" y="320040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</a:t>
            </a:r>
            <a:br>
              <a:rPr sz="1600"/>
            </a:b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Прямоугольник 4"/>
          <p:cNvSpPr/>
          <p:nvPr/>
        </p:nvSpPr>
        <p:spPr>
          <a:xfrm>
            <a:off x="3441600" y="1364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Равнобедренный треугольник 54"/>
          <p:cNvSpPr/>
          <p:nvPr/>
        </p:nvSpPr>
        <p:spPr>
          <a:xfrm rot="5400000">
            <a:off x="3240360" y="2372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ик 4"/>
          <p:cNvSpPr/>
          <p:nvPr/>
        </p:nvSpPr>
        <p:spPr>
          <a:xfrm>
            <a:off x="5649840" y="14760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рямоугольник 5"/>
          <p:cNvSpPr/>
          <p:nvPr/>
        </p:nvSpPr>
        <p:spPr>
          <a:xfrm>
            <a:off x="5381640" y="577800"/>
            <a:ext cx="34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Цикл фильмов и программ, посвященных знаковым событиям Великой Отечественной войны для показов и обсуждений в образовательных организац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рямоугольник 5"/>
          <p:cNvSpPr/>
          <p:nvPr/>
        </p:nvSpPr>
        <p:spPr>
          <a:xfrm>
            <a:off x="3274920" y="249228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Уроки Побе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Прямоугольник 59"/>
          <p:cNvSpPr/>
          <p:nvPr/>
        </p:nvSpPr>
        <p:spPr>
          <a:xfrm>
            <a:off x="5781600" y="31496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Прямоугольник 5"/>
          <p:cNvSpPr/>
          <p:nvPr/>
        </p:nvSpPr>
        <p:spPr>
          <a:xfrm>
            <a:off x="5367240" y="2230560"/>
            <a:ext cx="34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оздание совместно со школьниками видеосюжетов для уроков истории по изучению тем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057480" y="359244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Единые мультимедийны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62"/>
          <p:cNvSpPr/>
          <p:nvPr/>
        </p:nvSpPr>
        <p:spPr>
          <a:xfrm>
            <a:off x="5821200" y="455436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5"/>
          <p:cNvSpPr/>
          <p:nvPr/>
        </p:nvSpPr>
        <p:spPr>
          <a:xfrm>
            <a:off x="5418000" y="3568680"/>
            <a:ext cx="349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оведение единых мультимедийных уроков совместно с региональным центром Президентской библиотеки имени Б.Н. Ель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оугольник 5"/>
          <p:cNvSpPr/>
          <p:nvPr/>
        </p:nvSpPr>
        <p:spPr>
          <a:xfrm>
            <a:off x="3057480" y="515448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дио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Наша Победа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 рассказ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вой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65"/>
          <p:cNvSpPr/>
          <p:nvPr/>
        </p:nvSpPr>
        <p:spPr>
          <a:xfrm>
            <a:off x="5843520" y="61358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5"/>
          <p:cNvSpPr/>
          <p:nvPr/>
        </p:nvSpPr>
        <p:spPr>
          <a:xfrm>
            <a:off x="5427720" y="4952880"/>
            <a:ext cx="348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диовещание корреспондентов - участников фестиваля детских радиопрограмм «Птенец» на радиостанциях: «Радио России - «Регион - Тюмень», Вести ФМ», «Мая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оугольник 3"/>
          <p:cNvSpPr/>
          <p:nvPr/>
        </p:nvSpPr>
        <p:spPr>
          <a:xfrm>
            <a:off x="0" y="0"/>
            <a:ext cx="255888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Group 38" descr=""/>
          <p:cNvPicPr/>
          <p:nvPr/>
        </p:nvPicPr>
        <p:blipFill>
          <a:blip r:embed="rId1"/>
          <a:stretch/>
        </p:blipFill>
        <p:spPr>
          <a:xfrm>
            <a:off x="4541760" y="85680"/>
            <a:ext cx="206280" cy="206280"/>
          </a:xfrm>
          <a:prstGeom prst="rect">
            <a:avLst/>
          </a:prstGeom>
          <a:ln w="0">
            <a:noFill/>
          </a:ln>
        </p:spPr>
      </p:pic>
      <p:sp>
        <p:nvSpPr>
          <p:cNvPr id="1644" name="Прямоугольник 5"/>
          <p:cNvSpPr/>
          <p:nvPr/>
        </p:nvSpPr>
        <p:spPr>
          <a:xfrm>
            <a:off x="2530440" y="65232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Детям - о войн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ольник 34"/>
          <p:cNvSpPr/>
          <p:nvPr/>
        </p:nvSpPr>
        <p:spPr>
          <a:xfrm>
            <a:off x="5195880" y="692280"/>
            <a:ext cx="388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область сегод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3"/>
          <p:cNvSpPr/>
          <p:nvPr/>
        </p:nvSpPr>
        <p:spPr>
          <a:xfrm>
            <a:off x="76320" y="1862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ая соединительная линия 51"/>
          <p:cNvSpPr/>
          <p:nvPr/>
        </p:nvSpPr>
        <p:spPr>
          <a:xfrm>
            <a:off x="76320" y="3006720"/>
            <a:ext cx="23778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ольник 52"/>
          <p:cNvSpPr/>
          <p:nvPr/>
        </p:nvSpPr>
        <p:spPr>
          <a:xfrm>
            <a:off x="25560" y="321156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ая соединительная линия 53"/>
          <p:cNvSpPr/>
          <p:nvPr/>
        </p:nvSpPr>
        <p:spPr>
          <a:xfrm flipH="1">
            <a:off x="2557080" y="0"/>
            <a:ext cx="11160" cy="6851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2793960" y="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Равнобедренный треугольник 54"/>
          <p:cNvSpPr/>
          <p:nvPr/>
        </p:nvSpPr>
        <p:spPr>
          <a:xfrm rot="5400000">
            <a:off x="2631240" y="8604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768920" y="46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5"/>
          <p:cNvSpPr/>
          <p:nvPr/>
        </p:nvSpPr>
        <p:spPr>
          <a:xfrm>
            <a:off x="4433760" y="3049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с журналистами газеты  в школах, где готовились материалы проекта «Народная пам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5"/>
          <p:cNvSpPr/>
          <p:nvPr/>
        </p:nvSpPr>
        <p:spPr>
          <a:xfrm>
            <a:off x="2490840" y="184644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етевой подпроект «Улица геро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рямоугольник 59"/>
          <p:cNvSpPr/>
          <p:nvPr/>
        </p:nvSpPr>
        <p:spPr>
          <a:xfrm>
            <a:off x="5821200" y="2341440"/>
            <a:ext cx="3276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ИА «Тюменская ли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рямоугольник 5"/>
          <p:cNvSpPr/>
          <p:nvPr/>
        </p:nvSpPr>
        <p:spPr>
          <a:xfrm>
            <a:off x="4433760" y="1752480"/>
            <a:ext cx="46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ние инфографических материалов и видеосюжетов о героях войны, именами которых названы улицы, на интернет - ресурсах школ и в социальных с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рямоугольник 5"/>
          <p:cNvSpPr/>
          <p:nvPr/>
        </p:nvSpPr>
        <p:spPr>
          <a:xfrm>
            <a:off x="2610000" y="273384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 Сибири не было войны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Прямоугольник 5"/>
          <p:cNvSpPr/>
          <p:nvPr/>
        </p:nvSpPr>
        <p:spPr>
          <a:xfrm>
            <a:off x="4433760" y="266688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Разработка социальных проектов о земляках – участниках войны, трудовом вкладе в Победу, учителях-фронтовиках, выпускниках 1941-1945 годов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убликация лучших работ в рубрике «Уголок России» в газете «Тюменская правд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5"/>
          <p:cNvSpPr/>
          <p:nvPr/>
        </p:nvSpPr>
        <p:spPr>
          <a:xfrm>
            <a:off x="4433760" y="944640"/>
            <a:ext cx="46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тюменских байкеров со школьниками с возложением цветов к памятникам погибш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26"/>
          <p:cNvSpPr/>
          <p:nvPr/>
        </p:nvSpPr>
        <p:spPr>
          <a:xfrm>
            <a:off x="5176800" y="1300320"/>
            <a:ext cx="3888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Мотоклуб «Ночные вол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рямоугольник 27"/>
          <p:cNvSpPr/>
          <p:nvPr/>
        </p:nvSpPr>
        <p:spPr>
          <a:xfrm>
            <a:off x="5821200" y="3554280"/>
            <a:ext cx="3276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прав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Прямоугольник 5"/>
          <p:cNvSpPr/>
          <p:nvPr/>
        </p:nvSpPr>
        <p:spPr>
          <a:xfrm>
            <a:off x="2562120" y="3948120"/>
            <a:ext cx="20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Узнай Героя - земля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Прямоугольник 5"/>
          <p:cNvSpPr/>
          <p:nvPr/>
        </p:nvSpPr>
        <p:spPr>
          <a:xfrm>
            <a:off x="4433760" y="398160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в рамках акции конкурса на лучший альбом, стенгазету, музейную экспозицию, урок памяти, посвященные землякам - Героям Советского Союза, полным кавалерам ордена Сла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Прямоугольник 37"/>
          <p:cNvSpPr/>
          <p:nvPr/>
        </p:nvSpPr>
        <p:spPr>
          <a:xfrm>
            <a:off x="4592520" y="4971960"/>
            <a:ext cx="4505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Совет ветеранов войны, труда и правоохранитель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Прямоугольник 5"/>
          <p:cNvSpPr/>
          <p:nvPr/>
        </p:nvSpPr>
        <p:spPr>
          <a:xfrm>
            <a:off x="2660760" y="5559480"/>
            <a:ext cx="189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течества достойные сы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Прямоугольник 5"/>
          <p:cNvSpPr/>
          <p:nvPr/>
        </p:nvSpPr>
        <p:spPr>
          <a:xfrm>
            <a:off x="4502160" y="5334120"/>
            <a:ext cx="464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конкурса музыкально-литературных композиций на краеведческом материале; конкурсов музеев и сочинений, посвященных 105 годовщине со дня рождения легендарного разведчика Н.И. Кузнецова; конкурсов чтецов; театрализованных постановок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Прямоугольник 40"/>
          <p:cNvSpPr/>
          <p:nvPr/>
        </p:nvSpPr>
        <p:spPr>
          <a:xfrm>
            <a:off x="4748040" y="6386400"/>
            <a:ext cx="4158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Ветеранские обществен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нецова Наталья Александровна</dc:creator>
  <dc:description/>
  <dc:language>en-US</dc:language>
  <cp:lastModifiedBy>User</cp:lastModifiedBy>
  <cp:lastPrinted>2015-12-14T06:58:34Z</cp:lastPrinted>
  <dcterms:modified xsi:type="dcterms:W3CDTF">2016-03-28T04:19:41Z</dcterms:modified>
  <cp:revision>10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